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1.jpeg" ContentType="image/jpeg"/>
  <Override PartName="/ppt/media/image62.png" ContentType="image/png"/>
  <Override PartName="/ppt/media/image7.jpeg" ContentType="image/jpeg"/>
  <Override PartName="/ppt/media/image64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5.jpeg" ContentType="image/jpeg"/>
  <Override PartName="/ppt/media/image50.png" ContentType="image/png"/>
  <Override PartName="/ppt/media/image2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15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27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84B-F203-4E44-B63A-6E1515C1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B8D-F7B6-43C4-96BA-C7FB5C21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16A-DF68-46C2-8C8D-C3731B37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566B-17DB-408B-91D3-35A94AB4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BF4C-B044-4C48-A774-E0512D76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9181-BACB-40AB-9102-948E53A7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597E-DEF3-461E-90A5-561EFB53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765E-23B5-45BF-8D8C-0872C434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E09F-E2A5-43BF-8168-B6229650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C707-FCBB-4E0D-8CEF-BA8EABA5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654A-65DC-4575-A6A6-AF58A96F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340F-384F-41A1-A9BE-BD994DFA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7418-01E8-4056-AFD7-4F91D178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F549-DB65-4415-AE11-54A19AE5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F780-D66B-4E8C-9CF6-13EB7DD5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0114-0F52-41B3-A1BE-59C9B5F4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02C9-451A-4903-8BB0-64F471D1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441-2ED4-440B-870D-DAFEDE1F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F64D-D77B-41D2-B5A2-C46BD67B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195-A393-4328-8EE3-3624AD7C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E44-995F-4293-9923-8ECBB081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B01-5682-496F-88C8-21EC91B3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985-4C98-451A-B3E9-D2B25296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FFB9-16B4-456B-B46F-459DC069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5E54-D901-423C-B2E7-2765B584A8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BD85-1411-4540-99A4-C4D77061811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F:/wiki/1935" TargetMode="External"/><Relationship Id="rId2" Type="http://schemas.openxmlformats.org/officeDocument/2006/relationships/hyperlink" Target="file:///F:/wiki/%25D0%25A1%25D0%25BE%25D0%25B1%25D0%25BE%25D0%25BB%25D1%258C" TargetMode="External"/><Relationship Id="rId3" Type="http://schemas.openxmlformats.org/officeDocument/2006/relationships/hyperlink" Target="file:///F:/wiki/%25D0%2590%25D0%25BC%25D1%2583%25D1%2580%25D1%2581%25D0%25BA%25D0%25B8%25D0%25B9_%25D1%2582%25D0%25B8%25D0%25B3%25D1%2580" TargetMode="External"/><Relationship Id="rId4" Type="http://schemas.openxmlformats.org/officeDocument/2006/relationships/hyperlink" Target="file:///F:/wiki/%25D0%2594%25D0%25B0%25D0%25BB%25D1%258C%25D0%25BD%25D0%25B8%25D0%25B9_%25D0%2592%25D0%25BE%25D1%2581%25D1%2582%25D0%25BE%25D0%25BA" TargetMode="External"/><Relationship Id="rId5" Type="http://schemas.openxmlformats.org/officeDocument/2006/relationships/hyperlink" Target="file:///F:/wiki/%25D0%25AE%25D0%259D%25D0%2595%25D0%25A1%25D0%259A%25D0%259E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0%25D1%2588%25D0%25BC%25D0%25B0%25D1%2587%25D0%25BE%25D0%25BA_%25D0%25BA%25D1%2580%25D1%2583%25D0%25BF%25D0%25BD%25D0%25BE%25D1%2586%25D0%25B2%25D0%25B5%25D1%2582%25D0%25BA%25D0%25BE%25D0%25B2%25D1%258B%25D0%25B9" TargetMode="External"/><Relationship Id="rId2" Type="http://schemas.openxmlformats.org/officeDocument/2006/relationships/hyperlink" Target="file:///F:/wiki/%25D0%2591%25D0%25B0%25D1%2588%25D0%25BC%25D0%25B0%25D1%2587%25D0%25BE%25D0%25BA_%25D0%25BD%25D0%25B0%25D1%2581%25D1%2582%25D0%25BE%25D1%258F%25D1%2589%25D0%25B8%25D0%25B9" TargetMode="External"/><Relationship Id="rId3" Type="http://schemas.openxmlformats.org/officeDocument/2006/relationships/hyperlink" Target="file:///F:/w/index.php%3Ftitle=%25D0%2591%25D0%25BE%25D1%2580%25D0%25BE%25D0%25B4%25D0%25B0%25D1%2582%25D0%25BA%25D0%25B0_%25D1%258F%25D0%25BF%25D0%25BE%25D0%25BD%25D1%2581%25D0%25BA%25D0%25B0%25D1%258F&amp;action=edit&amp;redlink=1" TargetMode="External"/><Relationship Id="rId4" Type="http://schemas.openxmlformats.org/officeDocument/2006/relationships/hyperlink" Target="file:///F:/w/index.php%3Ftitle=%25D0%2591%25D0%25BE%25D1%2580%25D0%25B5%25D1%2586_%25D1%2581%25D0%25B8%25D1%2585%25D0%25BE%25D1%2582%25D0%25B8%25D0%25BD%25D1%2581%25D0%25BA%25D0%25B8%25D0%25B9&amp;action=edit&amp;redlink=1" TargetMode="External"/><Relationship Id="rId5" Type="http://schemas.openxmlformats.org/officeDocument/2006/relationships/hyperlink" Target="file:///F:/w/index.php%3Ftitle=%25D0%2593%25D1%2580%25D1%2583%25D1%2588%25D0%25B0_%25D1%2583%25D1%2581%25D1%2581%25D1%2583%25D1%2580%25D0%25B8%25D0%25B9%25D1%2581%25D0%25BA%25D0%25B0%25D1%258F&amp;action=edit&amp;redlink=1" TargetMode="External"/><Relationship Id="rId6" Type="http://schemas.openxmlformats.org/officeDocument/2006/relationships/hyperlink" Target="file:///F:/wiki/%25D0%2594%25D0%25B8%25D0%25BE%25D1%2581%25D0%25BA%25D0%25BE%25D1%2580%25D0%25B5%25D1%258F_%25D1%258F%25D0%25BF%25D0%25BE%25D0%25BD%25D1%2581%25D0%25BA%25D0%25B0%25D1%258F" TargetMode="External"/><Relationship Id="rId7" Type="http://schemas.openxmlformats.org/officeDocument/2006/relationships/hyperlink" Target="file:///F:/w/index.php%3Ftitle=%25D0%2597%25D0%25B0%25D0%25BC%25D0%25B0%25D0%25BD%25D0%25B8%25D1%2585%25D0%25B0_%25D0%25B2%25D1%258B%25D1%2581%25D0%25BE%25D0%25BA%25D0%25B0%25D1%258F&amp;action=edit&amp;redlink=1" TargetMode="External"/><Relationship Id="rId8" Type="http://schemas.openxmlformats.org/officeDocument/2006/relationships/hyperlink" Target="file:///F:/w/index.php%3Ftitle=%25D0%259A%25D0%25B0%25D1%2581%25D0%25B0%25D1%2582%25D0%25B8%25D0%25BA_%25D0%25BC%25D0%25B5%25D1%2587%25D0%25B5%25D0%25B2%25D0%25B8%25D0%25B4%25D0%25BD%25D1%258B%25D0%25B9&amp;action=edit&amp;redlink=1" TargetMode="External"/><Relationship Id="rId9" Type="http://schemas.openxmlformats.org/officeDocument/2006/relationships/hyperlink" Target="file:///F:/w/index.php%3Ftitle=%25D0%259A%25D0%25BE%25D1%2582%25D0%25BE%25D0%25B2%25D0%25BD%25D0%25B8%25D0%25BA_%25D0%25BC%25D0%25B0%25D0%25BD%25D1%2587%25D1%258C%25D0%25B6%25D1%2583%25D1%2580%25D1%2581%25D0%25BA%25D0%25B8%25D0%25B9&amp;action=edit&amp;redlink=1" TargetMode="External"/><Relationship Id="rId10" Type="http://schemas.openxmlformats.org/officeDocument/2006/relationships/hyperlink" Target="file:///F:/w/index.php%3Ftitle=%25D0%259A%25D1%2583%25D0%25B1%25D1%258B%25D1%2588%25D0%25BA%25D0%25B0_%25D0%25BC%25D0%25B0%25D0%25BB%25D0%25B0%25D1%258F&amp;action=edit&amp;redlink=1" TargetMode="External"/><Relationship Id="rId11" Type="http://schemas.openxmlformats.org/officeDocument/2006/relationships/hyperlink" Target="file:///F:/w/index.php%3Ftitle=%25D0%259A%25D1%2583%25D1%2580%25D0%25B8%25D0%25BB%25D1%258C%25D1%2581%25D0%25BA%25D0%25B8%25D0%25B9_%25D1%2587%25D0%25B0%25D0%25B9_%25D0%25BC%25D0%25B0%25D0%25BD%25D1%258C%25D1%2587%25D0%25B6%25D1%2583%25D1%2580%25D1%2581%25D0%25BA%25D0%25B8%25D0%25B9&amp;action=edit&amp;redlink=1" TargetMode="External"/><Relationship Id="rId12" Type="http://schemas.openxmlformats.org/officeDocument/2006/relationships/hyperlink" Target="file:///F:/w/index.php%3Ftitle=%25D0%259B%25D0%25B8%25D0%25BB%25D0%25B8%25D1%258F_%25D0%25B4%25D0%25B0%25D1%2583%25D1%2580%25D1%2581%25D0%25BA%25D0%25B0%25D1%258F&amp;action=edit&amp;redlink=1" TargetMode="External"/><Relationship Id="rId13" Type="http://schemas.openxmlformats.org/officeDocument/2006/relationships/hyperlink" Target="file:///F:/w/index.php%3Ftitle=%25D0%259B%25D0%25B8%25D0%25BB%25D0%25B8%25D1%258F_%25D0%25B4%25D0%25B2%25D1%2583%25D1%2580%25D1%258F%25D0%25B4%25D0%25BD%25D0%25B0%25D1%258F&amp;action=edit&amp;redlink=1" TargetMode="External"/><Relationship Id="rId14" Type="http://schemas.openxmlformats.org/officeDocument/2006/relationships/hyperlink" Target="file:///F:/wiki/%25D0%259B%25D0%25B8%25D0%25BC%25D0%25BE%25D0%25BD%25D0%25BD%25D0%25B8%25D0%25BA_%25D0%25BA%25D0%25B8%25D1%2582%25D0%25B0%25D0%25B9%25D1%2581%25D0%25BA%25D0%25B8%25D0%25B9" TargetMode="External"/><Relationship Id="rId15" Type="http://schemas.openxmlformats.org/officeDocument/2006/relationships/hyperlink" Target="file:///F:/wiki/%25D0%259B%25D0%25B8%25D1%2581%25D1%2582%25D0%25B2%25D0%25B5%25D0%25BD%25D0%25BD%25D0%25B8%25D1%2586%25D0%25B0_%25D0%25BE%25D0%25BB%25D1%258C%25D0%25B3%25D0%25B8%25D0%25BD%25D1%2581%25D0%25BA%25D0%25B0%25D1%258F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www.flowersweb.info/images/interesting/karelia/karelia-12.jpg" TargetMode="External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file:///F:/wiki/%25D0%2590%25D0%25BC%25D1%2583%25D1%2580%25D1%2581%25D0%25BA%25D0%25B8%25D0%25B9_%25D1%2582%25D0%25B8%25D0%25B3%25D1%2580" TargetMode="External"/><Relationship Id="rId3" Type="http://schemas.openxmlformats.org/officeDocument/2006/relationships/hyperlink" Target="file:///F:/wiki/%25D0%2593%25D0%25BE%25D1%2580%25D0%25B0%25D0%25BB" TargetMode="External"/><Relationship Id="rId4" Type="http://schemas.openxmlformats.org/officeDocument/2006/relationships/hyperlink" Target="file:///F:/wiki/%25D0%259B%25D0%25BE%25D1%2581%25D1%258C" TargetMode="External"/><Relationship Id="rId5" Type="http://schemas.openxmlformats.org/officeDocument/2006/relationships/hyperlink" Target="file:///F:/wiki/%25D0%259F%25D1%258F%25D1%2582%25D0%25BD%25D0%25B8%25D1%2581%25D1%2582%25D1%258B%25D0%25B9_%25D0%25BE%25D0%25BB%25D0%25B5%25D0%25BD%25D1%258C" TargetMode="External"/><Relationship Id="rId6" Type="http://schemas.openxmlformats.org/officeDocument/2006/relationships/hyperlink" Target="file:///F:/wiki/%25D0%2593%25D0%25B8%25D0%25BC%25D0%25B0%25D0%25BB%25D0%25B0%25D0%25B9%25D1%2581%25D0%25BA%25D0%25B8%25D0%25B9_%25D0%25BC%25D0%25B5%25D0%25B4%25D0%25B2%25D0%25B5%25D0%25B4%25D1%258C" TargetMode="External"/><Relationship Id="rId7" Type="http://schemas.openxmlformats.org/officeDocument/2006/relationships/hyperlink" Target="file:///F:/wiki/%25D0%2590%25D0%25B8%25D1%2581%25D1%2582_%25D1%2587%25D1%2591%25D1%2580%25D0%25BD%25D1%258B%25D0%25B9" TargetMode="External"/><Relationship Id="rId8" Type="http://schemas.openxmlformats.org/officeDocument/2006/relationships/hyperlink" Target="file:///F:/w/index.php%3Ftitle=%25D0%2591%25D0%25B5%25D0%25BA%25D0%25B0%25D1%2581_%25D1%258F%25D0%25BF%25D0%25BE%25D0%25BD%25D1%2581%25D0%25BA%25D0%25B8%25D0%25B9&amp;action=edit&amp;redlink=1" TargetMode="External"/><Relationship Id="rId9" Type="http://schemas.openxmlformats.org/officeDocument/2006/relationships/hyperlink" Target="http://ru.wikipedia.org/wiki/&#1060;&#1072;&#1081;&#1083;:Naemorhedus_goral.jp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ru.wikipedia.org/wiki/&#1060;&#1072;&#1081;&#1083;:Ursus_thibetanus_Phila.JP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ru.wikipedia.org/wiki/&#1060;&#1072;&#1081;&#1083;:Gallinago_gallinago_PA192659.jpg" TargetMode="External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1%2580%25D0%25B8%25D0%25BC%25D0%25BE%25D1%2580%25D1%258C%25D0%25B5" TargetMode="External"/><Relationship Id="rId2" Type="http://schemas.openxmlformats.org/officeDocument/2006/relationships/hyperlink" Target="file:///F:/wiki/%25D0%259A%25D0%25B8%25D0%25B5%25D0%25B2%25D0%25BA%25D0%25B0_(%25D1%2580%25D0%25B5%25D0%25BA%25D0%25B0)" TargetMode="External"/><Relationship Id="rId3" Type="http://schemas.openxmlformats.org/officeDocument/2006/relationships/hyperlink" Target="file:///F:/wiki/%25D0%259B%25D0%25B0%25D0%25B7%25D0%25BE%25D0%25B2%25D1%2581%25D0%25BA%25D0%25B8%25D0%25B9_%25D1%2580%25D0%25B0%25D0%25B9%25D0%25BE%25D0%25BD" TargetMode="External"/><Relationship Id="rId4" Type="http://schemas.openxmlformats.org/officeDocument/2006/relationships/hyperlink" Target="file:///F:/wiki/%25D0%259F%25D1%2580%25D0%25B8%25D0%25BC%25D0%25BE%25D1%2580%25D1%2581%25D0%25BA%25D0%25B8%25D0%25B9_%25D0%25BA%25D1%2580%25D0%25B0%25D0%25B9" TargetMode="External"/><Relationship Id="rId5" Type="http://schemas.openxmlformats.org/officeDocument/2006/relationships/hyperlink" Target="file:///F:/wiki/%25D0%2597%25D0%25B0%25D0%25BA%25D0%25B0%25D0%25B7%25D0%25BD%25D0%25B8%25D0%25BA" TargetMode="External"/><Relationship Id="rId6" Type="http://schemas.openxmlformats.org/officeDocument/2006/relationships/hyperlink" Target="file:///F:/wiki/%25D0%259C%25D1%2583%25D1%2581%25D1%2581%25D0%25BE%25D0%25BD" TargetMode="External"/><Relationship Id="rId7" Type="http://schemas.openxmlformats.org/officeDocument/2006/relationships/hyperlink" Target="file:///F:/wiki/%25D0%25AF%25D0%25B3%25D0%25BE%25D0%25B4%25D0%25BD%25D1%258B%25D0%25B9_%25D1%2582%25D0%25B8%25D1%2581" TargetMode="External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0%25D0%25BC%25D1%2583%25D1%2580%25D1%2581%25D0%25BA%25D0%25B8%25D0%25B9_%25D0%25B3%25D0%25BE%25D1%2580%25D0%25B0%25D0%25BB&amp;action=edit&amp;redlink=1" TargetMode="External"/><Relationship Id="rId2" Type="http://schemas.openxmlformats.org/officeDocument/2006/relationships/hyperlink" Target="file:///F:/wiki/%25D0%2590%25D0%25BC%25D1%2583%25D1%2580%25D1%2581%25D0%25BA%25D0%25B8%25D0%25B9_%25D1%2582%25D0%25B8%25D0%25B3%25D1%2580" TargetMode="External"/><Relationship Id="rId3" Type="http://schemas.openxmlformats.org/officeDocument/2006/relationships/hyperlink" Target="file:///F:/w/index.php%3Ftitle=%25D0%2593%25D0%25B8%25D0%25B3%25D0%25B0%25D0%25BD%25D1%2582%25D1%2581%25D0%25BA%25D0%25B0%25D1%258F_%25D0%25B1%25D1%2583%25D1%2580%25D0%25BE%25D0%25B7%25D1%2583%25D0%25B1%25D0%25BA%25D0%25B0&amp;action=edit&amp;redlink=1" TargetMode="External"/><Relationship Id="rId4" Type="http://schemas.openxmlformats.org/officeDocument/2006/relationships/hyperlink" Target="file:///F:/wiki/%25D0%2594%25D0%25B0%25D0%25BB%25D1%258C%25D0%25BD%25D0%25B5%25D0%25B2%25D0%25BE%25D1%2581%25D1%2582%25D0%25BE%25D1%2587%25D0%25BD%25D1%258B%25D0%25B9_%25D0%25BB%25D0%25B5%25D0%25BE%25D0%25BF%25D0%25B0%25D1%2580%25D0%25B4" TargetMode="External"/><Relationship Id="rId5" Type="http://schemas.openxmlformats.org/officeDocument/2006/relationships/hyperlink" Target="file:///F:/w/index.php%3Ftitle=%25D0%259E%25D0%25B1%25D1%258B%25D0%25BA%25D0%25BD%25D0%25BE%25D0%25B2%25D0%25B5%25D0%25BD%25D0%25BD%25D1%258B%25D0%25B9_%25D0%25B4%25D0%25BB%25D0%25B8%25D0%25BD%25D0%25BD%25D0%25BE%25D0%25BA%25D1%2580%25D1%258B%25D0%25BB&amp;action=edit&amp;redlink=1" TargetMode="External"/><Relationship Id="rId6" Type="http://schemas.openxmlformats.org/officeDocument/2006/relationships/hyperlink" Target="file:///F:/w/index.php%3Ftitle=%25D0%25A3%25D1%2581%25D1%2581%25D1%2583%25D1%2580%25D0%25B8%25D0%25B9%25D1%2581%25D0%25BA%25D0%25B8%25D0%25B9_%25D0%25BF%25D1%258F%25D1%2582%25D0%25BD%25D0%25B8%25D1%2581%25D1%2582%25D1%258B%25D0%25B9_%25D0%25BE%25D0%25BB%25D0%25B5%25D0%25BD%25D1%258C&amp;action=edit&amp;redlink=1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4%25D0%25B0%25D0%25BB%25D1%258C%25D0%25BD%25D0%25B5%25D0%25B2%25D0%25BE%25D1%2581%25D1%2582%25D0%25BE%25D1%2587%25D0%25BD%25D1%258B%25D0%25B9_%25D0%25BA%25D1%2580%25D0%25BE%25D0%25BD%25D1%2588%25D0%25BD%25D0%25B5%25D0%25BF&amp;action=edit&amp;redlink=1" TargetMode="External"/><Relationship Id="rId2" Type="http://schemas.openxmlformats.org/officeDocument/2006/relationships/hyperlink" Target="file:///F:/wiki/%25D0%2594%25D0%25B0%25D1%2583%25D1%2580%25D1%2581%25D0%25BA%25D0%25B8%25D0%25B9_%25D0%25B6%25D1%2583%25D1%2580%25D0%25B0%25D0%25B2%25D0%25BB%25D1%258C" TargetMode="External"/><Relationship Id="rId3" Type="http://schemas.openxmlformats.org/officeDocument/2006/relationships/hyperlink" Target="file:///F:/wiki/%25D0%2594%25D1%2580%25D0%25BE%25D1%2584%25D0%25B0" TargetMode="External"/><Relationship Id="rId4" Type="http://schemas.openxmlformats.org/officeDocument/2006/relationships/hyperlink" Target="file:///F:/wiki/%25D0%2595%25D0%25B3%25D0%25B8%25D0%25BF%25D0%25B5%25D1%2582%25D1%2581%25D0%25BA%25D0%25B0%25D1%258F_%25D1%2586%25D0%25B0%25D0%25BF%25D0%25BB%25D1%258F" TargetMode="External"/><Relationship Id="rId5" Type="http://schemas.openxmlformats.org/officeDocument/2006/relationships/hyperlink" Target="file:///F:/w/index.php%3Ftitle=%25D0%2596%25D0%25B5%25D0%25BB%25D1%2582%25D0%25BE%25D0%25BA%25D0%25BB%25D1%258E%25D0%25B2%25D0%25B0%25D1%258F_%25D1%2586%25D0%25B0%25D0%25BF%25D0%25BB%25D1%258F&amp;action=edit&amp;redlink=1" TargetMode="External"/><Relationship Id="rId6" Type="http://schemas.openxmlformats.org/officeDocument/2006/relationships/hyperlink" Target="file:///F:/wiki/%25D0%259A%25D0%25BB%25D0%25BE%25D0%25BA%25D1%2582%25D1%2583%25D0%25BD" TargetMode="External"/><Relationship Id="rId7" Type="http://schemas.openxmlformats.org/officeDocument/2006/relationships/hyperlink" Target="file:///F:/wiki/%25D0%259A%25D0%25BE%25D0%25BB%25D0%25BF%25D0%25B8%25D1%2586%25D0%25B0" TargetMode="External"/><Relationship Id="rId8" Type="http://schemas.openxmlformats.org/officeDocument/2006/relationships/hyperlink" Target="file:///F:/wiki/%25D0%259A%25D1%2580%25D0%25B0%25D1%2581%25D0%25BD%25D0%25BE%25D0%25BD%25D0%25BE%25D0%25B3%25D0%25B8%25D0%25B9_%25D0%25B8%25D0%25B1%25D0%25B8%25D1%2581" TargetMode="External"/><Relationship Id="rId9" Type="http://schemas.openxmlformats.org/officeDocument/2006/relationships/hyperlink" Target="file:///F:/wiki/%25D0%259A%25D1%2580%25D0%25B5%25D1%2587%25D0%25B5%25D1%2582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ru.wikipedia.org/wiki/&#1060;&#1072;&#1081;&#1083;:Curlew_-_natures_pics.jpg" TargetMode="External"/><Relationship Id="rId12" Type="http://schemas.openxmlformats.org/officeDocument/2006/relationships/image" Target="../media/image27.jpeg"/><Relationship Id="rId13" Type="http://schemas.openxmlformats.org/officeDocument/2006/relationships/hyperlink" Target="http://ru.wikipedia.org/wiki/&#1060;&#1072;&#1081;&#1083;:Loeffler.jpg" TargetMode="External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F:/wiki/%25D0%259C%25D0%25B0%25D0%25BB%25D0%25B0%25D1%258F_%25D0%25BA%25D1%2580%25D0%25B0%25D1%2587%25D0%25BA%25D0%25B0" TargetMode="External"/><Relationship Id="rId2" Type="http://schemas.openxmlformats.org/officeDocument/2006/relationships/hyperlink" Target="file:///F:/wiki/%25D0%259C%25D0%25B0%25D0%25BB%25D1%258B%25D0%25B9_%25D0%25BB%25D0%25B5%25D0%25B1%25D0%25B5%25D0%25B4%25D1%258C" TargetMode="External"/><Relationship Id="rId3" Type="http://schemas.openxmlformats.org/officeDocument/2006/relationships/hyperlink" Target="file:///F:/wiki/%25D0%259B%25D0%25B5%25D0%25B1%25D0%25B5%25D0%25B4%25D1%258C" TargetMode="External"/><Relationship Id="rId4" Type="http://schemas.openxmlformats.org/officeDocument/2006/relationships/hyperlink" Target="file:///F:/wiki/%25D0%259D%25D1%258B%25D1%2580%25D0%25BE%25D0%25BA_%25D0%2591%25D1%258D%25D1%2580%25D0%25B0" TargetMode="External"/><Relationship Id="rId5" Type="http://schemas.openxmlformats.org/officeDocument/2006/relationships/hyperlink" Target="file:///F:/wiki/%25D0%259E%25D0%25B1%25D1%258B%25D0%25BA%25D0%25BD%25D0%25BE%25D0%25B2%25D0%25B5%25D0%25BD%25D0%25BD%25D1%258B%25D0%25B9_%25D1%2584%25D0%25BB%25D0%25B0%25D0%25BC%25D0%25B8%25D0%25BD%25D0%25B3%25D0%25BE" TargetMode="External"/><Relationship Id="rId6" Type="http://schemas.openxmlformats.org/officeDocument/2006/relationships/hyperlink" Target="file:///F:/wiki/%25D0%259E%25D1%2580%25D0%25BB%25D0%25B0%25D0%25BD-%25D0%25B1%25D0%25B5%25D0%25BB%25D0%25BE%25D1%2585%25D0%25B2%25D0%25BE%25D1%2581%25D1%2582" TargetMode="External"/><Relationship Id="rId7" Type="http://schemas.openxmlformats.org/officeDocument/2006/relationships/hyperlink" Target="file:///F:/wiki/%25D0%259E%25D1%2585%25D0%25BE%25D1%2582%25D1%2581%25D0%25BA%25D0%25B8%25D0%25B9_%25D1%2583%25D0%25BB%25D0%25B8%25D1%2582" TargetMode="External"/><Relationship Id="rId8" Type="http://schemas.openxmlformats.org/officeDocument/2006/relationships/hyperlink" Target="file:///F:/wiki/%25D0%259F%25D0%25B8%25D1%2581%25D0%25BA%25D1%2583%25D0%25BB%25D1%258C%25D0%25BA%25D0%25B0" TargetMode="External"/><Relationship Id="rId9" Type="http://schemas.openxmlformats.org/officeDocument/2006/relationships/hyperlink" Target="file:///F:/wiki/%25D0%25A0%25D0%25BE%25D0%25B3%25D0%25B0%25D1%2582%25D0%25B0%25D1%258F_%25D0%25BA%25D0%25B0%25D0%25BC%25D1%258B%25D1%2588%25D0%25BD%25D0%25B8%25D1%2586%25D0%25B0" TargetMode="External"/><Relationship Id="rId10" Type="http://schemas.openxmlformats.org/officeDocument/2006/relationships/hyperlink" Target="file:///F:/wiki/%25D0%25A0%25D1%258B%25D0%25B1%25D0%25BD%25D1%258B%25D0%25B9_%25D1%2584%25D0%25B8%25D0%25BB%25D0%25B8%25D0%25BD" TargetMode="External"/><Relationship Id="rId11" Type="http://schemas.openxmlformats.org/officeDocument/2006/relationships/hyperlink" Target="file:///F:/wiki/%25D0%25A1%25D0%25B0%25D0%25BF%25D1%2581%25D0%25B0%25D0%25BD" TargetMode="External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hyperlink" Target="http://ru.wikipedia.org/wiki/&#1060;&#1072;&#1081;&#1083;:Qtqy.jpg" TargetMode="External"/><Relationship Id="rId16" Type="http://schemas.openxmlformats.org/officeDocument/2006/relationships/image" Target="../media/image31.jpeg"/><Relationship Id="rId17" Type="http://schemas.openxmlformats.org/officeDocument/2006/relationships/hyperlink" Target="http://ru.wikipedia.org/wiki/&#1060;&#1072;&#1081;&#1083;:Seeadler-flug.jpg" TargetMode="External"/><Relationship Id="rId18" Type="http://schemas.openxmlformats.org/officeDocument/2006/relationships/image" Target="../media/image32.jpeg"/><Relationship Id="rId19" Type="http://schemas.openxmlformats.org/officeDocument/2006/relationships/hyperlink" Target="http://ru.wikipedia.org/wiki/&#1060;&#1072;&#1081;&#1083;:Watercock.jpg" TargetMode="External"/><Relationship Id="rId20" Type="http://schemas.openxmlformats.org/officeDocument/2006/relationships/image" Target="../media/image33.jpeg"/><Relationship Id="rId21" Type="http://schemas.openxmlformats.org/officeDocument/2006/relationships/hyperlink" Target="http://ru.wikipedia.org/wiki/&#1060;&#1072;&#1081;&#1083;:Ente_unbekannt_1.jpg" TargetMode="External"/><Relationship Id="rId22" Type="http://schemas.openxmlformats.org/officeDocument/2006/relationships/image" Target="../media/image34.jpeg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F:/wiki/%25D0%259A%25D0%25B0%25D0%25BC%25D1%2587%25D0%25B0%25D1%2582%25D0%25BA%25D0%25B0" TargetMode="External"/><Relationship Id="rId2" Type="http://schemas.openxmlformats.org/officeDocument/2006/relationships/hyperlink" Target="file:///F:/wiki/%25D0%25A5%25D0%25BE%25D0%25BA%25D0%25BA%25D0%25B0%25D0%25B9%25D0%25B4%25D0%25BE" TargetMode="External"/><Relationship Id="rId3" Type="http://schemas.openxmlformats.org/officeDocument/2006/relationships/hyperlink" Target="file:///F:/wiki/%25D0%259E%25D1%2585%25D0%25BE%25D1%2582%25D1%2581%25D0%25BA%25D0%25BE%25D0%25B5_%25D0%25BC%25D0%25BE%25D1%2580%25D0%25B5" TargetMode="External"/><Relationship Id="rId4" Type="http://schemas.openxmlformats.org/officeDocument/2006/relationships/hyperlink" Target="file:///F:/wiki/%25D0%25A2%25D0%25B8%25D1%2585%25D0%25B8%25D0%25B9_%25D0%25BE%25D0%25BA%25D0%25B5%25D0%25B0%25D0%25BD" TargetMode="External"/><Relationship Id="rId5" Type="http://schemas.openxmlformats.org/officeDocument/2006/relationships/hyperlink" Target="file:///F:/wiki/%25D0%25A0%25D0%25BE%25D1%2581%25D1%2581%25D0%25B8%25D1%258F" TargetMode="External"/><Relationship Id="rId6" Type="http://schemas.openxmlformats.org/officeDocument/2006/relationships/hyperlink" Target="file:///F:/wiki/%25D0%25A1%25D0%25B0%25D1%2585%25D0%25B0%25D0%25BB%25D0%25B8%25D0%25BD%25D1%2581%25D0%25BA%25D0%25B0%25D1%258F_%25D0%25BE%25D0%25B1%25D0%25BB%25D0%25B0%25D1%2581%25D1%2582%25D1%258C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F:/wiki/%25D0%259E%25D1%2581%25D1%2582%25D1%2580%25D0%25BE%25D0%25B2%25D0%25BD%25D0%25B0%25D1%258F_%25D0%25B4%25D1%2583%25D0%25B3%25D0%25B0" TargetMode="External"/><Relationship Id="rId2" Type="http://schemas.openxmlformats.org/officeDocument/2006/relationships/hyperlink" Target="file:///F:/wiki/%25D0%259E%25D1%2585%25D0%25BE%25D1%2582%25D1%2581%25D0%25BA%25D0%25B0%25D1%258F_%25D0%25BF%25D0%25BB%25D0%25B8%25D1%2582%25D0%25B0" TargetMode="External"/><Relationship Id="rId3" Type="http://schemas.openxmlformats.org/officeDocument/2006/relationships/hyperlink" Target="file:///F:/wiki/%25D0%2597%25D0%25BE%25D0%25BD%25D0%25B0_%25D1%2581%25D1%2583%25D0%25B1%25D0%25B4%25D1%2583%25D0%25BA%25D1%2586%25D0%25B8%25D0%25B8" TargetMode="External"/><Relationship Id="rId4" Type="http://schemas.openxmlformats.org/officeDocument/2006/relationships/hyperlink" Target="file:///F:/wiki/%25D0%25A2%25D0%25B8%25D1%2585%25D0%25BE%25D0%25BE%25D0%25BA%25D0%25B5%25D0%25B0%25D0%25BD%25D1%2581%25D0%25BA%25D0%25B0%25D1%258F_%25D0%25BF%25D0%25BB%25D0%25B8%25D1%2582%25D0%25B0" TargetMode="External"/><Relationship Id="rId5" Type="http://schemas.openxmlformats.org/officeDocument/2006/relationships/hyperlink" Target="file:///F:/wiki/%25D0%259E%25D1%2581%25D1%2582%25D1%2580%25D0%25BE%25D0%25B2_%25D0%2590%25D1%2582%25D0%25BB%25D0%25B0%25D1%2581%25D0%25BE%25D0%25B2%25D0%25B0" TargetMode="External"/><Relationship Id="rId6" Type="http://schemas.openxmlformats.org/officeDocument/2006/relationships/hyperlink" Target="file:///F:/wiki/%25D0%2590%25D0%25BB%25D0%25B0%25D0%25B8%25D0%25B4" TargetMode="External"/><Relationship Id="rId7" Type="http://schemas.openxmlformats.org/officeDocument/2006/relationships/hyperlink" Target="file:///F:/wiki/%25D0%2592%25D1%2583%25D0%25BB%25D0%25BA%25D0%25B0%25D0%25BD_(%25D0%25B3%25D0%25B5%25D0%25BE%25D0%25BB%25D0%25BE%25D0%25B3%25D0%25B8%25D1%258F)" TargetMode="External"/><Relationship Id="rId8" Type="http://schemas.openxmlformats.org/officeDocument/2006/relationships/hyperlink" Target="file:///F:/w/index.php%3Ftitle=%25D0%259C%25D0%25B8%25D0%25BD%25D0%25B5%25D1%2580%25D0%25B0%25D0%25BB%25D1%258C%25D0%25BD%25D1%258B%25D0%25B5_%25D0%25B8%25D1%2581%25D1%2582%25D0%25BE%25D1%2587%25D0%25BD%25D0%25B8%25D0%25BA%25D0%25B8&amp;action=edit&amp;redlink=1" TargetMode="External"/><Relationship Id="rId9" Type="http://schemas.openxmlformats.org/officeDocument/2006/relationships/hyperlink" Target="file:///F:/wiki/%25D0%25A1%25D0%25B5%25D0%25B9%25D1%2581%25D0%25BC%25D0%25B8%25D1%2587%25D0%25BD%25D0%25BE%25D1%2581%25D1%2582%25D1%258C" TargetMode="External"/><Relationship Id="rId10" Type="http://schemas.openxmlformats.org/officeDocument/2006/relationships/hyperlink" Target="file:///F:/wiki/%25D0%25A2%25D0%25B8%25D1%2585%25D0%25BE%25D0%25BE%25D0%25BA%25D0%25B5%25D0%25B0%25D0%25BD%25D1%2581%25D0%25BA%25D0%25BE%25D0%25B5_%25D0%25B2%25D1%2583%25D0%25BB%25D0%25BA%25D0%25B0%25D0%25BD%25D0%25B8%25D1%2587%25D0%25B5%25D1%2581%25D0%25BA%25D0%25BE%25D0%25B5_%25D0%25BE%25D0%25B3%25D0%25BD%25D0%25B5%25D0%25BD%25D0%25BD%25D0%25BE%25D0%25B5_%25D0%25BA%25D0%25BE%25D0%25BB%25D1%258C%25D1%2586%25D0%25BE" TargetMode="External"/><Relationship Id="rId11" Type="http://schemas.openxmlformats.org/officeDocument/2006/relationships/hyperlink" Target="file:///F:/wiki/%25D0%25A6%25D1%2583%25D0%25BD%25D0%25B0%25D0%25BC%25D0%25B8" TargetMode="External"/><Relationship Id="rId12" Type="http://schemas.openxmlformats.org/officeDocument/2006/relationships/image" Target="../media/image35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F:/wiki/%25D0%259B%25D0%25B8%25D1%2581%25D0%25B0" TargetMode="External"/><Relationship Id="rId2" Type="http://schemas.openxmlformats.org/officeDocument/2006/relationships/hyperlink" Target="file:///F:/wiki/%25D0%2593%25D1%2580%25D1%258B%25D0%25B7%25D1%2583%25D0%25BD%25D1%258B" TargetMode="External"/><Relationship Id="rId3" Type="http://schemas.openxmlformats.org/officeDocument/2006/relationships/hyperlink" Target="file:///F:/wiki/%25D0%25A0%25D0%25B6%25D0%25B0%25D0%25BD%25D0%25BA%25D0%25BE%25D0%25BE%25D0%25B1%25D1%2580%25D0%25B0%25D0%25B7%25D0%25BD%25D1%258B%25D0%25B5" TargetMode="External"/><Relationship Id="rId4" Type="http://schemas.openxmlformats.org/officeDocument/2006/relationships/hyperlink" Target="file:///F:/wiki/%25D0%25A7%25D0%25B0%25D0%25B9%25D0%25BA%25D0%25B0" TargetMode="External"/><Relationship Id="rId5" Type="http://schemas.openxmlformats.org/officeDocument/2006/relationships/hyperlink" Target="file:///F:/wiki/%25D0%25A3%25D1%2582%25D0%25B8%25D0%25BD%25D1%258B%25D0%25B5" TargetMode="External"/><Relationship Id="rId6" Type="http://schemas.openxmlformats.org/officeDocument/2006/relationships/hyperlink" Target="file:///F:/wiki/%25D0%2591%25D0%25B0%25D0%25BA%25D0%25BB%25D0%25B0%25D0%25BD%25D1%258B" TargetMode="External"/><Relationship Id="rId7" Type="http://schemas.openxmlformats.org/officeDocument/2006/relationships/hyperlink" Target="file:///F:/wiki/%25D0%2591%25D1%2583%25D1%2580%25D0%25B5%25D0%25B2%25D0%25B5%25D1%2581%25D1%2582%25D0%25BD%25D0%25B8%25D0%25BA%25D0%25B8" TargetMode="External"/><Relationship Id="rId8" Type="http://schemas.openxmlformats.org/officeDocument/2006/relationships/hyperlink" Target="file:///F:/wiki/%25D0%2590%25D0%25BB%25D1%258C%25D0%25B1%25D0%25B0%25D1%2582%25D1%2580%25D0%25BE%25D1%2581%25D1%258B" TargetMode="External"/><Relationship Id="rId9" Type="http://schemas.openxmlformats.org/officeDocument/2006/relationships/hyperlink" Target="file:///F:/wiki/%25D0%2592%25D0%25BE%25D1%2580%25D0%25BE%25D0%25B1%25D1%258C%25D0%25B8%25D0%25BD%25D1%258B%25D0%25B5" TargetMode="External"/><Relationship Id="rId10" Type="http://schemas.openxmlformats.org/officeDocument/2006/relationships/hyperlink" Target="file:///F:/wiki/%25D0%25A1%25D0%25BE%25D0%25B2%25D1%258B" TargetMode="External"/><Relationship Id="rId11" Type="http://schemas.openxmlformats.org/officeDocument/2006/relationships/hyperlink" Target="file:///F:/wiki/%25D0%25A1%25D0%25BE%25D0%25BA%25D0%25BE%25D0%25BB%25D0%25BE%25D0%25BE%25D0%25B1%25D1%2580%25D0%25B0%25D0%25B7%25D0%25BD%25D1%258B%25D0%25B5" TargetMode="External"/><Relationship Id="rId12" Type="http://schemas.openxmlformats.org/officeDocument/2006/relationships/hyperlink" Target="file:///F:/wiki/%25D0%259F%25D1%2582%25D0%25B8%25D1%2587%25D0%25B8%25D0%25B9_%25D0%25B1%25D0%25B0%25D0%25B7%25D0%25B0%25D1%2580" TargetMode="External"/><Relationship Id="rId13" Type="http://schemas.openxmlformats.org/officeDocument/2006/relationships/hyperlink" Target="file:///F:/wiki/%25D0%259D%25D0%25B5%25D1%2580%25D0%25BF%25D0%25B0" TargetMode="External"/><Relationship Id="rId14" Type="http://schemas.openxmlformats.org/officeDocument/2006/relationships/hyperlink" Target="file:///F:/wiki/%25D0%259A%25D0%25B0%25D0%25BB%25D0%25B0%25D0%25BD%25D1%258B" TargetMode="External"/><Relationship Id="rId15" Type="http://schemas.openxmlformats.org/officeDocument/2006/relationships/hyperlink" Target="file:///F:/wiki/%25D0%259A%25D0%25BE%25D1%2581%25D0%25B0%25D1%2582%25D0%25BA%25D0%25B0_(%25D0%25BC%25D0%25BB%25D0%25B5%25D0%25BA%25D0%25BE%25D0%25BF%25D0%25B8%25D1%2582%25D0%25B0%25D1%258E%25D1%2589%25D0%25B5%25D0%25B5)" TargetMode="External"/><Relationship Id="rId16" Type="http://schemas.openxmlformats.org/officeDocument/2006/relationships/hyperlink" Target="file:///F:/wiki/%25D0%25A1%25D0%25B8%25D0%25B2%25D1%2583%25D1%2587" TargetMode="External"/><Relationship Id="rId17" Type="http://schemas.openxmlformats.org/officeDocument/2006/relationships/hyperlink" Target="file:///F:/wiki/%25D0%25A0%25D1%258B%25D0%25B1%25D1%258B" TargetMode="External"/><Relationship Id="rId18" Type="http://schemas.openxmlformats.org/officeDocument/2006/relationships/hyperlink" Target="file:///F:/wiki/%25D0%259A%25D1%2580%25D0%25B0%25D0%25B1" TargetMode="External"/><Relationship Id="rId19" Type="http://schemas.openxmlformats.org/officeDocument/2006/relationships/hyperlink" Target="file:///F:/wiki/%25D0%259C%25D0%25BE%25D0%25BB%25D0%25BB%25D1%258E%25D1%2581%25D0%25BA" TargetMode="External"/><Relationship Id="rId20" Type="http://schemas.openxmlformats.org/officeDocument/2006/relationships/hyperlink" Target="file:///F:/wiki/%25D0%259A%25D0%25B0%25D0%25BB%25D1%258C%25D0%25BC%25D0%25B0%25D1%2580" TargetMode="External"/><Relationship Id="rId21" Type="http://schemas.openxmlformats.org/officeDocument/2006/relationships/hyperlink" Target="file:///F:/wiki/%25D0%25A0%25D0%25B0%25D0%25BA%25D0%25BE%25D0%25BE%25D0%25B1%25D1%2580%25D0%25B0%25D0%25B7%25D0%25BD%25D1%258B%25D0%25B5" TargetMode="External"/><Relationship Id="rId22" Type="http://schemas.openxmlformats.org/officeDocument/2006/relationships/hyperlink" Target="file:///F:/wiki/%25D0%25A2%25D1%2580%25D0%25B5%25D0%25BF%25D0%25B0%25D0%25BD%25D0%25B3" TargetMode="External"/><Relationship Id="rId23" Type="http://schemas.openxmlformats.org/officeDocument/2006/relationships/hyperlink" Target="file:///F:/wiki/%25D0%259A%25D1%2583%25D0%25BA%25D1%2583%25D0%25BC%25D0%25B0%25D1%2580%25D0%25B8%25D1%258F" TargetMode="External"/><Relationship Id="rId24" Type="http://schemas.openxmlformats.org/officeDocument/2006/relationships/hyperlink" Target="file:///F:/wiki/%25D0%259C%25D0%25BE%25D1%2580%25D1%2581%25D0%25BA%25D0%25B8%25D0%25B5_%25D0%25B5%25D0%25B6%25D0%25B8" TargetMode="External"/><Relationship Id="rId25" Type="http://schemas.openxmlformats.org/officeDocument/2006/relationships/hyperlink" Target="file:///F:/wiki/%25D0%259C%25D0%25BE%25D1%2580%25D1%2581%25D0%25BA%25D0%25B0%25D1%258F_%25D0%25BA%25D0%25B0%25D0%25BF%25D1%2583%25D1%2581%25D1%2582%25D0%25B0" TargetMode="External"/><Relationship Id="rId26" Type="http://schemas.openxmlformats.org/officeDocument/2006/relationships/hyperlink" Target="file:///F:/wiki/%25D0%259A%25D0%25B8%25D1%2582%25D0%25BE%25D0%25BE%25D0%25B1%25D1%2580%25D0%25B0%25D0%25B7%25D0%25BD%25D1%258B%25D0%25B5" TargetMode="External"/><Relationship Id="rId27" Type="http://schemas.openxmlformats.org/officeDocument/2006/relationships/image" Target="../media/image36.jpeg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opt.info/dmorsk/bigmap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0%25BE%25D0%25BB%25D1%2583%25D0%25BE%25D1%2581%25D1%2582%25D1%2580%25D0%25BE%25D0%25B2" TargetMode="External"/><Relationship Id="rId2" Type="http://schemas.openxmlformats.org/officeDocument/2006/relationships/hyperlink" Target="file:///F:/wiki/%25D0%259C%25D0%25B0%25D1%2582%25D0%25B5%25D1%2580%25D0%25B8%25D0%25BA" TargetMode="External"/><Relationship Id="rId3" Type="http://schemas.openxmlformats.org/officeDocument/2006/relationships/hyperlink" Target="file:///F:/wiki/%25D0%2595%25D0%25B2%25D1%2580%25D0%25B0%25D0%25B7%25D0%25B8%25D1%258F" TargetMode="External"/><Relationship Id="rId4" Type="http://schemas.openxmlformats.org/officeDocument/2006/relationships/hyperlink" Target="file:///F:/wiki/%25D0%25A0%25D0%25BE%25D1%2581%25D1%2581%25D0%25B8%25D1%258F" TargetMode="External"/><Relationship Id="rId5" Type="http://schemas.openxmlformats.org/officeDocument/2006/relationships/hyperlink" Target="file:///F:/wiki/%25D0%259E%25D1%2585%25D0%25BE%25D1%2582%25D1%2581%25D0%25BA%25D0%25BE%25D0%25B5_%25D0%25BC%25D0%25BE%25D1%2580%25D0%25B5" TargetMode="External"/><Relationship Id="rId6" Type="http://schemas.openxmlformats.org/officeDocument/2006/relationships/hyperlink" Target="file:///F:/wiki/%25D0%2591%25D0%25B5%25D1%2580%25D0%25B8%25D0%25BD%25D0%25B3%25D0%25BE%25D0%25B2%25D0%25BE_%25D0%25BC%25D0%25BE%25D1%2580%25D0%25B5" TargetMode="External"/><Relationship Id="rId7" Type="http://schemas.openxmlformats.org/officeDocument/2006/relationships/hyperlink" Target="file:///F:/wiki/%25D0%25A2%25D0%25B8%25D1%2585%25D0%25B8%25D0%25B9_%25D0%25BE%25D0%25BA%25D0%25B5%25D0%25B0%25D0%25BD" TargetMode="External"/><Relationship Id="rId8" Type="http://schemas.openxmlformats.org/officeDocument/2006/relationships/hyperlink" Target="file:///F:/wiki/%25D0%259F%25D0%25B5%25D1%2580%25D0%25B5%25D1%2588%25D0%25B5%25D0%25B5%25D0%25BA" TargetMode="External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F:/wiki/%25D0%2592%25D1%2583%25D0%25BB%25D0%25BA%25D0%25B0%25D0%25BD" TargetMode="External"/><Relationship Id="rId2" Type="http://schemas.openxmlformats.org/officeDocument/2006/relationships/hyperlink" Target="file:///F:/wiki/%25D0%259A%25D0%25B0%25D0%25BC%25D1%2587%25D0%25B0%25D1%2582%25D1%2581%25D0%25BA%25D0%25B8%25D0%25B9_%25D0%25BA%25D1%2580%25D0%25B0%25D0%25B9" TargetMode="External"/><Relationship Id="rId3" Type="http://schemas.openxmlformats.org/officeDocument/2006/relationships/hyperlink" Target="file:///F:/wiki/%25D0%259A%25D0%25B0%25D0%25BC%25D1%2587%25D0%25B0%25D1%2582%25D1%2581%25D0%25BA%25D0%25B0%25D1%258F_%25D0%25BE%25D0%25B1%25D0%25BB%25D0%25B0%25D1%2581%25D1%2582%25D1%258C" TargetMode="External"/><Relationship Id="rId4" Type="http://schemas.openxmlformats.org/officeDocument/2006/relationships/hyperlink" Target="file:///F:/wiki/%25D0%259F%25D0%25B5%25D1%2582%25D1%2580%25D0%25BE%25D0%25BF%25D0%25B0%25D0%25B2%25D0%25BB%25D0%25BE%25D0%25B2%25D1%2581%25D0%25BA-%25D0%259A%25D0%25B0%25D0%25BC%25D1%2587%25D0%25B0%25D1%2582%25D1%2581%25D0%25BA%25D0%25B8%25D0%25B9" TargetMode="External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F:/wiki/%25D0%25A1%25D0%25BE%25D0%25B1%25D0%25BE%25D0%25BB%25D1%258C" TargetMode="External"/><Relationship Id="rId2" Type="http://schemas.openxmlformats.org/officeDocument/2006/relationships/hyperlink" Target="file:///F:/wiki/%25D0%2593%25D0%25BE%25D1%2580%25D0%25BD%25D0%25BE%25D1%2581%25D1%2582%25D0%25B0%25D0%25B9" TargetMode="External"/><Relationship Id="rId3" Type="http://schemas.openxmlformats.org/officeDocument/2006/relationships/hyperlink" Target="file:///F:/wiki/%25D0%2592%25D1%258B%25D0%25B4%25D1%2580%25D0%25B0" TargetMode="External"/><Relationship Id="rId4" Type="http://schemas.openxmlformats.org/officeDocument/2006/relationships/hyperlink" Target="file:///F:/wiki/%25D0%2597%25D0%25B0%25D1%258F%25D1%2586-%25D0%25B1%25D0%25B5%25D0%25BB%25D1%258F%25D0%25BA" TargetMode="External"/><Relationship Id="rId5" Type="http://schemas.openxmlformats.org/officeDocument/2006/relationships/hyperlink" Target="file:///F:/wiki/%25D0%259E%25D0%25BD%25D0%25B4%25D0%25B0%25D1%2582%25D1%2580%25D0%25B0" TargetMode="External"/><Relationship Id="rId6" Type="http://schemas.openxmlformats.org/officeDocument/2006/relationships/hyperlink" Target="file:///F:/wiki/%25D0%259B%25D0%25B8%25D1%2581%25D0%25B8%25D1%2586%25D0%25B0" TargetMode="External"/><Relationship Id="rId7" Type="http://schemas.openxmlformats.org/officeDocument/2006/relationships/hyperlink" Target="file:///F:/wiki/%25D0%259B%25D0%25BE%25D1%2581%25D1%258C" TargetMode="External"/><Relationship Id="rId8" Type="http://schemas.openxmlformats.org/officeDocument/2006/relationships/hyperlink" Target="file:///F:/wiki/%25D0%25A1%25D0%25B5%25D0%25B2%25D0%25B5%25D1%2580%25D0%25BD%25D1%258B%25D0%25B9_%25D0%25BE%25D0%25BB%25D0%25B5%25D0%25BD%25D1%258C" TargetMode="External"/><Relationship Id="rId9" Type="http://schemas.openxmlformats.org/officeDocument/2006/relationships/hyperlink" Target="file:///F:/wiki/%25D0%25A1%25D0%25BD%25D0%25B5%25D0%25B6%25D0%25BD%25D1%258B%25D0%25B9_%25D0%25B1%25D0%25B0%25D1%2580%25D0%25B0%25D0%25BD" TargetMode="External"/><Relationship Id="rId10" Type="http://schemas.openxmlformats.org/officeDocument/2006/relationships/hyperlink" Target="file:///F:/wiki/%25D0%25A0%25D1%258B%25D1%2581%25D1%258C" TargetMode="External"/><Relationship Id="rId11" Type="http://schemas.openxmlformats.org/officeDocument/2006/relationships/hyperlink" Target="file:///F:/wiki/%25D0%259F%25D0%25BE%25D0%25BB%25D1%258F%25D1%2580%25D0%25BD%25D1%258B%25D0%25B9_%25D0%25B2%25D0%25BE%25D0%25BB%25D0%25BA" TargetMode="External"/><Relationship Id="rId12" Type="http://schemas.openxmlformats.org/officeDocument/2006/relationships/hyperlink" Target="file:///F:/wiki/%25D0%25A0%25D0%25BE%25D1%2581%25D0%25BE%25D0%25BC%25D0%25B0%25D1%2585%25D0%25B0" TargetMode="External"/><Relationship Id="rId13" Type="http://schemas.openxmlformats.org/officeDocument/2006/relationships/hyperlink" Target="file:///F:/wiki/%25D0%259B%25D0%25B0%25D1%2581%25D0%25BA%25D0%25B0_(%25D0%25B6%25D0%25B8%25D0%25B2%25D0%25BE%25D1%2582%25D0%25BD%25D0%25BE%25D0%25B5)" TargetMode="External"/><Relationship Id="rId14" Type="http://schemas.openxmlformats.org/officeDocument/2006/relationships/hyperlink" Target="file:///F:/wiki/%25D0%259A%25D0%25B0%25D0%25B1%25D0%25B0%25D1%2580%25D0%25B3%25D0%25B0" TargetMode="External"/><Relationship Id="rId15" Type="http://schemas.openxmlformats.org/officeDocument/2006/relationships/hyperlink" Target="file:///F:/wiki/%25D0%2594%25D0%25B8%25D0%25BA%25D1%2583%25D1%2588%25D0%25B0" TargetMode="External"/><Relationship Id="rId16" Type="http://schemas.openxmlformats.org/officeDocument/2006/relationships/hyperlink" Target="file:///F:/wiki/%25D0%2591%25D0%25B5%25D0%25BB%25D0%25BA%25D0%25B0-%25D0%25BB%25D0%25B5%25D1%2582%25D1%258F%25D0%25B3%25D0%25B0" TargetMode="External"/><Relationship Id="rId17" Type="http://schemas.openxmlformats.org/officeDocument/2006/relationships/hyperlink" Target="file:///F:/wiki/%25D0%2591%25D1%2583%25D1%2580%25D1%2583%25D0%25BD%25D0%25B4%25D1%2583%25D0%25BA" TargetMode="External"/><Relationship Id="rId18" Type="http://schemas.openxmlformats.org/officeDocument/2006/relationships/hyperlink" Target="file:///F:/wiki/1930-%25D0%25B5" TargetMode="External"/><Relationship Id="rId19" Type="http://schemas.openxmlformats.org/officeDocument/2006/relationships/hyperlink" Target="file:///F:/wiki/XX_%25D0%25B2%25D0%25B5%25D0%25BA" TargetMode="External"/><Relationship Id="rId20" Type="http://schemas.openxmlformats.org/officeDocument/2006/relationships/hyperlink" Target="file:///F:/wiki/%25D0%2591%25D1%2583%25D1%2580%25D1%258B%25D0%25B9_%25D0%25BC%25D0%25B5%25D0%25B4%25D0%25B2%25D0%25B5%25D0%25B4%25D1%258C" TargetMode="External"/><Relationship Id="rId21" Type="http://schemas.openxmlformats.org/officeDocument/2006/relationships/image" Target="../media/image43.jpeg"/><Relationship Id="rId22" Type="http://schemas.openxmlformats.org/officeDocument/2006/relationships/image" Target="../media/image44.jpeg"/><Relationship Id="rId23" Type="http://schemas.openxmlformats.org/officeDocument/2006/relationships/hyperlink" Target="http://ru.wikipedia.org/wiki/&#1060;&#1072;&#1081;&#1083;:Wolverine_on_rock.jpg" TargetMode="External"/><Relationship Id="rId24" Type="http://schemas.openxmlformats.org/officeDocument/2006/relationships/image" Target="../media/image45.jpeg"/><Relationship Id="rId25" Type="http://schemas.openxmlformats.org/officeDocument/2006/relationships/hyperlink" Target="http://ru.wikipedia.org/wiki/&#1060;&#1072;&#1081;&#1083;:Zobel_(Martes_zibellina).png" TargetMode="External"/><Relationship Id="rId26" Type="http://schemas.openxmlformats.org/officeDocument/2006/relationships/image" Target="../media/image46.png"/><Relationship Id="rId2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5%25D1%2580%25D0%25B5%25D0%25B7%25D0%25B0_%25D0%25AD%25D1%2580%25D0%25BC%25D0%25B0%25D0%25BD%25D0%25B0" TargetMode="External"/><Relationship Id="rId2" Type="http://schemas.openxmlformats.org/officeDocument/2006/relationships/image" Target="../media/image47.jpeg"/><Relationship Id="rId3" Type="http://schemas.openxmlformats.org/officeDocument/2006/relationships/hyperlink" Target="http://ru.wikipedia.org/wiki/&#1060;&#1072;&#1081;&#1083;:Betula_ermanii_(200612).jpg" TargetMode="External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0%25BE%25D0%25BB%25D1%2583%25D0%25BE%25D1%2581%25D1%2582%25D1%2580%25D0%25BE%25D0%25B2_%25D0%259A%25D0%25B0%25D0%25BC%25D1%2587%25D0%25B0%25D1%2582%25D0%25BA%25D0%25B0" TargetMode="External"/><Relationship Id="rId2" Type="http://schemas.openxmlformats.org/officeDocument/2006/relationships/hyperlink" Target="file:///F:/wiki/%25D0%259A%25D1%2580%25D0%25BE%25D0%25BD%25D0%25BE%25D1%2586%25D0%25BA%25D0%25B8%25D0%25B9_%25D0%25B7%25D0%25B0%25D0%25BF%25D0%25BE%25D0%25B2%25D0%25B5%25D0%25B4%25D0%25BD%25D0%25B8%25D0%25BA" TargetMode="External"/><Relationship Id="rId3" Type="http://schemas.openxmlformats.org/officeDocument/2006/relationships/image" Target="../media/image49.jpeg"/><Relationship Id="rId4" Type="http://schemas.openxmlformats.org/officeDocument/2006/relationships/hyperlink" Target="http://ru.wikipedia.org/wiki/&#1060;&#1072;&#1081;&#1083;:Map_of_Russia_-_Kamchatka_Krai_(2008-03).svg" TargetMode="External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A8%25D1%2583%25D0%25BC%25D0%25BD%25D0%25B0%25D1%258F_(%25D1%2580%25D0%25B5%25D0%25BA%25D0%25B0)&amp;action=edit&amp;redlink=1" TargetMode="External"/><Relationship Id="rId2" Type="http://schemas.openxmlformats.org/officeDocument/2006/relationships/hyperlink" Target="file:///F:/wiki/%25D0%259A%25D0%25B2%25D0%25B0%25D0%25B4%25D1%2580%25D0%25B0%25D1%2582%25D0%25BD%25D1%258B%25D0%25B9_%25D0%25BA%25D0%25B8%25D0%25BB%25D0%25BE%25D0%25BC%25D0%25B5%25D1%2582%25D1%2580" TargetMode="External"/><Relationship Id="rId3" Type="http://schemas.openxmlformats.org/officeDocument/2006/relationships/hyperlink" Target="file:///F:/wiki/%25D0%2593%25D0%25B5%25D0%25B9%25D0%25B7%25D0%25B5%25D1%2580" TargetMode="External"/><Relationship Id="rId4" Type="http://schemas.openxmlformats.org/officeDocument/2006/relationships/hyperlink" Target="file:///F:/wiki/%25D0%2593%25D1%2580%25D0%25B0%25D0%25B4%25D1%2583%25D1%2581_%25D0%25A6%25D0%25B5%25D0%25BB%25D1%258C%25D1%2581%25D0%25B8%25D1%258F" TargetMode="External"/><Relationship Id="rId5" Type="http://schemas.openxmlformats.org/officeDocument/2006/relationships/hyperlink" Target="file:///F:/wiki/%25D0%259F%25D0%25B0%25D1%2580" TargetMode="External"/><Relationship Id="rId6" Type="http://schemas.openxmlformats.org/officeDocument/2006/relationships/hyperlink" Target="file:///F:/wiki/%25D0%2592%25D1%2583%25D0%25BB%25D0%25BA%25D0%25B0%25D0%25BD_(%25D0%25B3%25D0%25B5%25D0%25BE%25D0%25BB%25D0%25BE%25D0%25B3%25D0%25B8%25D1%258F)" TargetMode="External"/><Relationship Id="rId7" Type="http://schemas.openxmlformats.org/officeDocument/2006/relationships/hyperlink" Target="file:///F:/wiki/%25D0%259A%25D0%25B0%25D0%25BD%25D1%258C%25D0%25BE%25D0%25BD" TargetMode="External"/><Relationship Id="rId8" Type="http://schemas.openxmlformats.org/officeDocument/2006/relationships/hyperlink" Target="file:///F:/wiki/%25D0%259A%25D0%25B8%25D0%25BB%25D0%25BE%25D0%25BC%25D0%25B5%25D1%2582%25D1%2580" TargetMode="External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F:/wiki/1981" TargetMode="External"/><Relationship Id="rId2" Type="http://schemas.openxmlformats.org/officeDocument/2006/relationships/hyperlink" Target="file:///F:/w/index.php%3Ftitle=%25D0%2593%25D0%25B5%25D0%25B9%25D0%25B7%25D0%25B5%25D1%2580%25D0%25BD%25D0%25B0%25D1%258F_(%25D1%2580%25D0%25B5%25D0%25BA%25D0%25B0)&amp;action=edit&amp;redlink=1" TargetMode="External"/><Relationship Id="rId3" Type="http://schemas.openxmlformats.org/officeDocument/2006/relationships/hyperlink" Target="file:///F:/wiki/3_%25D0%25B8%25D1%258E%25D0%25BD%25D1%258F" TargetMode="External"/><Relationship Id="rId4" Type="http://schemas.openxmlformats.org/officeDocument/2006/relationships/hyperlink" Target="file:///F:/wiki/2007" TargetMode="External"/><Relationship Id="rId5" Type="http://schemas.openxmlformats.org/officeDocument/2006/relationships/hyperlink" Target="file:///F:/wiki/%25D0%25A1%25D0%25B5%25D0%25BB%25D1%258C" TargetMode="External"/><Relationship Id="rId6" Type="http://schemas.openxmlformats.org/officeDocument/2006/relationships/hyperlink" Target="file:///F:/wiki/%25D0%2593%25D1%2580%25D1%258F%25D0%25B7%25D1%258C" TargetMode="External"/><Relationship Id="rId7" Type="http://schemas.openxmlformats.org/officeDocument/2006/relationships/hyperlink" Target="file:///F:/wiki/%25D0%259A%25D0%25B0%25D0%25BC%25D0%25B5%25D0%25BD%25D1%258C" TargetMode="External"/><Relationship Id="rId8" Type="http://schemas.openxmlformats.org/officeDocument/2006/relationships/hyperlink" Target="file:///F:/wiki/%25D0%2594%25D0%25B0%25D0%25BC%25D0%25B1%25D0%25B0" TargetMode="External"/><Relationship Id="rId9" Type="http://schemas.openxmlformats.org/officeDocument/2006/relationships/hyperlink" Target="file:///F:/wiki/%25D0%259E%25D0%25B7%25D0%25B5%25D1%2580%25D0%25BE" TargetMode="External"/><Relationship Id="rId10" Type="http://schemas.openxmlformats.org/officeDocument/2006/relationships/hyperlink" Target="file:///F:/wiki/%25D0%2592%25D0%25BE%25D0%25B4%25D0%25B0" TargetMode="External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0%25D0%25B7%25D0%25B0%25D0%25B8%25D1%2585%25D0%25B0_(%25D1%2580%25D0%25B5%25D0%25BA%25D0%25B0)" TargetMode="External"/><Relationship Id="rId2" Type="http://schemas.openxmlformats.org/officeDocument/2006/relationships/hyperlink" Target="file:///F:/wiki/%25D0%259C%25D0%25B0%25D0%25BD%25D0%25B0_(%25D1%2580%25D0%25B5%25D0%25BA%25D0%25B0)" TargetMode="External"/><Relationship Id="rId3" Type="http://schemas.openxmlformats.org/officeDocument/2006/relationships/hyperlink" Target="file:///F:/wiki/%25D0%25A1%25D0%25B8%25D0%25B5%25D0%25BD%25D0%25B8%25D1%2582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F:/wiki/%25D0%25A4%25D0%25B0%25D0%25B9%25D0%25BB:Flag_of_Russia.svg" TargetMode="External"/><Relationship Id="rId2" Type="http://schemas.openxmlformats.org/officeDocument/2006/relationships/hyperlink" Target="file:///F:/wiki/%25D0%25A0%25D0%25BE%25D1%2581%25D1%2581%25D0%25B8%25D1%258F" TargetMode="External"/><Relationship Id="rId3" Type="http://schemas.openxmlformats.org/officeDocument/2006/relationships/hyperlink" Target="file:///F:/wiki/%25D0%259A%25D1%2580%25D0%25B0%25D1%2581%25D0%25BD%25D0%25BE%25D1%258F%25D1%2580%25D1%2581%25D0%25BA" TargetMode="External"/><Relationship Id="rId4" Type="http://schemas.openxmlformats.org/officeDocument/2006/relationships/hyperlink" Target="file:///F:/wiki/%25D0%2593%25D0%25B0" TargetMode="External"/><Relationship Id="rId5" Type="http://schemas.openxmlformats.org/officeDocument/2006/relationships/hyperlink" Target="file:///F:/wiki/1925" TargetMode="External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image" Target="../media/image56.jpeg"/><Relationship Id="rId11" Type="http://schemas.openxmlformats.org/officeDocument/2006/relationships/image" Target="../media/image5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F:/wiki/27_%25D0%25B4%25D0%25B5%25D0%25BA%25D0%25B0%25D0%25B1%25D1%2580%25D1%258F" TargetMode="External"/><Relationship Id="rId2" Type="http://schemas.openxmlformats.org/officeDocument/2006/relationships/hyperlink" Target="file:///F:/wiki/1989_%25D0%25B3%25D0%25BE%25D0%25B4" TargetMode="External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F:/wiki/%25D0%2597%25D0%25B0%25D0%25BF%25D0%25BE%25D0%25B2%25D0%25B5%25D0%25B4%25D0%25BD%25D0%25B8%25D0%25BA" TargetMode="External"/><Relationship Id="rId2" Type="http://schemas.openxmlformats.org/officeDocument/2006/relationships/hyperlink" Target="file:///F:/wiki/%25D0%259F%25D0%25B5%25D0%25BD%25D0%25B7%25D0%25B5%25D0%25BD%25D1%2581%25D0%25BA%25D0%25B0%25D1%258F_%25D0%25BE%25D0%25B1%25D0%25BB%25D0%25B0%25D1%2581%25D1%2582%25D1%258C" TargetMode="External"/><Relationship Id="rId3" Type="http://schemas.openxmlformats.org/officeDocument/2006/relationships/hyperlink" Target="file:///F:/wiki/%25D0%259F%25D0%25BE%25D0%25B2%25D0%25BE%25D0%25BB%25D0%25B6%25D1%258C%25D0%25B5" TargetMode="External"/><Relationship Id="rId4" Type="http://schemas.openxmlformats.org/officeDocument/2006/relationships/hyperlink" Target="file:///F:/wiki/%25D0%25A0%25D0%25BE%25D1%2581%25D1%2581%25D0%25B8%25D1%258F" TargetMode="External"/><Relationship Id="rId5" Type="http://schemas.openxmlformats.org/officeDocument/2006/relationships/hyperlink" Target="file:///F:/wiki/%25D0%25A1%25D1%2582%25D0%25B5%25D0%25BF%25D1%258C" TargetMode="External"/><Relationship Id="rId6" Type="http://schemas.openxmlformats.org/officeDocument/2006/relationships/hyperlink" Target="file:///F:/wiki/%25D0%25A3%25D0%25BB%25D1%258C%25D1%258F%25D0%25BD%25D0%25BE%25D0%25B2%25D1%2581%25D0%25BA%25D0%25B0%25D1%258F_%25D0%25BE%25D0%25B1%25D0%25BB%25D0%25B0%25D1%2581%25D1%2582%25D1%258C" TargetMode="External"/><Relationship Id="rId7" Type="http://schemas.openxmlformats.org/officeDocument/2006/relationships/hyperlink" Target="file:///F:/wiki/%25D0%259F%25D1%2580%25D0%25B8%25D0%25B2%25D0%25BE%25D0%25BB%25D0%25B6%25D1%2581%25D0%25BA%25D0%25B0%25D1%258F_%25D0%25B2%25D0%25BE%25D0%25B7%25D0%25B2%25D1%258B%25D1%2588%25D0%25B5%25D0%25BD%25D0%25BD%25D0%25BE%25D1%2581%25D1%2582%25D1%258C" TargetMode="External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F:/wiki/%25D0%25A4%25D0%25B0%25D0%25B9%25D0%25BB:Privolzhskaya_lesostep_87.jpg" TargetMode="External"/><Relationship Id="rId2" Type="http://schemas.openxmlformats.org/officeDocument/2006/relationships/hyperlink" Target="file:///F:/wiki/%25D0%25A4%25D0%25BB%25D0%25BE%25D1%2580%25D0%25B0" TargetMode="External"/><Relationship Id="rId3" Type="http://schemas.openxmlformats.org/officeDocument/2006/relationships/hyperlink" Target="file:///F:/wiki/%25D0%25A1%25D0%25BE%25D1%2581%25D1%2583%25D0%25B4%25D0%25B8%25D1%2581%25D1%2582%25D1%258B%25D0%25B5_%25D1%2580%25D0%25B0%25D1%2581%25D1%2582%25D0%25B5%25D0%25BD%25D0%25B8%25D1%258F" TargetMode="External"/><Relationship Id="rId4" Type="http://schemas.openxmlformats.org/officeDocument/2006/relationships/hyperlink" Target="file:///F:/wiki/%25D0%259B%25D0%25B8%25D1%2588%25D0%25B0%25D0%25B9%25D0%25BD%25D0%25B8%25D0%25BA" TargetMode="External"/><Relationship Id="rId5" Type="http://schemas.openxmlformats.org/officeDocument/2006/relationships/hyperlink" Target="file:///F:/wiki/%25D0%259C%25D0%25BE%25D1%2585%25D0%25BE%25D0%25BE%25D0%25B1%25D1%2580%25D0%25B0%25D0%25B7%25D0%25BD%25D1%258B%25D0%25B5" TargetMode="External"/><Relationship Id="rId6" Type="http://schemas.openxmlformats.org/officeDocument/2006/relationships/hyperlink" Target="file:///F:/wiki/%25D0%2593%25D1%2580%25D0%25B8%25D0%25B1" TargetMode="External"/><Relationship Id="rId7" Type="http://schemas.openxmlformats.org/officeDocument/2006/relationships/hyperlink" Target="file:///F:/w/index.php%3Ftitle=%25D0%25A1%25D1%2580%25D0%25B5%25D0%25B4%25D0%25BD%25D0%25B5%25D0%25B5_%25D0%259F%25D0%25BE%25D0%25B2%25D0%25BE%25D0%25BB%25D0%25B6%25D1%258C%25D0%25B5&amp;action=edit&amp;redlink=1" TargetMode="External"/><Relationship Id="rId8" Type="http://schemas.openxmlformats.org/officeDocument/2006/relationships/hyperlink" Target="file:///F:/wiki/%25D0%259A%25D1%2580%25D0%25B0%25D1%2581%25D0%25BD%25D0%25B0%25D1%258F_%25D0%25BA%25D0%25BD%25D0%25B8%25D0%25B3%25D0%25B0_%25D0%25A0%25D0%25BE%25D1%2581%25D1%2581%25D0%25B8%25D0%25B8" TargetMode="External"/><Relationship Id="rId9" Type="http://schemas.openxmlformats.org/officeDocument/2006/relationships/hyperlink" Target="file:///F:/w/index.php%3Ftitle=%25D0%259C%25D1%2583%25D1%2585%25D0%25BE%25D0%25BC%25D0%25BE%25D1%2580_%25D1%2588%25D0%25B8%25D1%2588%25D0%25BA%25D0%25BE%25D0%25B2%25D0%25B8%25D0%25B4%25D0%25BD%25D1%258B%25D0%25B9&amp;action=edit&amp;redlink=1" TargetMode="External"/><Relationship Id="rId10" Type="http://schemas.openxmlformats.org/officeDocument/2006/relationships/hyperlink" Target="file:///F:/w/index.php%3Ftitle=%25D0%25A0%25D1%258F%25D0%25B1%25D1%2587%25D0%25B8%25D0%25BA_%25D1%2580%25D1%2583%25D1%2581%25D1%2581%25D0%25BA%25D0%25B8%25D0%25B9&amp;action=edit&amp;redlink=1" TargetMode="External"/><Relationship Id="rId11" Type="http://schemas.openxmlformats.org/officeDocument/2006/relationships/hyperlink" Target="file:///F:/w/index.php%3Ftitle=%25D0%259D%25D0%25B5%25D0%25BE%25D1%2582%25D1%2582%25D0%25B8%25D0%25B0%25D0%25BD%25D1%2582%25D0%25B0_%25D0%25BA%25D0%25BB%25D0%25BE%25D0%25B1%25D1%2583%25D1%2587%25D0%25BA%25D0%25BE%25D0%25B2%25D0%25B0%25D1%258F&amp;action=edit&amp;redlink=1" TargetMode="External"/><Relationship Id="rId12" Type="http://schemas.openxmlformats.org/officeDocument/2006/relationships/hyperlink" Target="file:///F:/w/index.php%3Ftitle=%25D0%259F%25D1%258B%25D0%25BB%25D1%258C%25D1%2586%25D0%25B5%25D0%25B3%25D0%25BE%25D0%25BB%25D0%25BE%25D0%25B2%25D0%25BD%25D0%25B8%25D0%25BA_%25D0%25BA%25D1%2580%25D0%25B0%25D1%2581%25D0%25BD%25D1%258B%25D0%25B9&amp;action=edit&amp;redlink=1" TargetMode="External"/><Relationship Id="rId13" Type="http://schemas.openxmlformats.org/officeDocument/2006/relationships/hyperlink" Target="file:///F:/w/index.php%3Ftitle=%25D0%259D%25D0%25B0%25D0%25B4%25D0%25B1%25D0%25BE%25D1%2580%25D0%25BE%25D0%25B4%25D0%25BD%25D0%25B8%25D0%25BA_%25D0%25B1%25D0%25B5%25D0%25B7%25D0%25BB%25D0%25B8%25D1%2581%25D1%2582%25D0%25BD%25D1%258B%25D0%25B9&amp;action=edit&amp;redlink=1" TargetMode="External"/><Relationship Id="rId14" Type="http://schemas.openxmlformats.org/officeDocument/2006/relationships/hyperlink" Target="file:///F:/wiki/%25D0%259A%25D0%25BE%25D0%25B2%25D1%258B%25D0%25BB%25D1%258C" TargetMode="External"/><Relationship Id="rId15" Type="http://schemas.openxmlformats.org/officeDocument/2006/relationships/hyperlink" Target="file:///F:/w/index.php%3Ftitle=%25D0%259A%25D0%25BE%25D0%25B2%25D1%258B%25D0%25BB%25D1%258C_%25D0%25BE%25D0%25BF%25D1%2583%25D1%2588%25D0%25B5%25D0%25BD%25D0%25BD%25D0%25BE%25D0%25BB%25D0%25B8%25D1%2581%25D1%2582%25D0%25BD%25D1%258B%25D0%25B9&amp;action=edit&amp;redlink=1" TargetMode="External"/><Relationship Id="rId16" Type="http://schemas.openxmlformats.org/officeDocument/2006/relationships/hyperlink" Target="file:///F:/w/index.php%3Ftitle=%25D0%259A%25D0%25BE%25D0%25B2%25D1%258B%25D0%25BB%25D1%258C_%25D0%25BF%25D0%25B5%25D1%2580%25D0%25B8%25D1%2581%25D1%2582%25D1%258B%25D0%25B9&amp;action=edit&amp;redlink=1" TargetMode="External"/><Relationship Id="rId17" Type="http://schemas.openxmlformats.org/officeDocument/2006/relationships/hyperlink" Target="file:///F:/w/index.php%3Ftitle=%25D0%259A%25D0%25BE%25D0%25B2%25D1%258B%25D0%25BB%25D1%258C_%25D0%25BA%25D1%2580%25D0%25B0%25D1%2581%25D0%25B8%25D0%25B2%25D0%25B5%25D0%25B9%25D1%2588%25D0%25B8%25D0%25B9&amp;action=edit&amp;redlink=1" TargetMode="External"/><Relationship Id="rId18" Type="http://schemas.openxmlformats.org/officeDocument/2006/relationships/hyperlink" Target="file:///F:/w/index.php%3Ftitle=%25D0%259A%25D0%25BE%25D0%25B2%25D1%258B%25D0%25BB%25D1%258C_%25D0%2597%25D0%25B0%25D0%25BB%25D0%25B5%25D1%2581%25D1%2581%25D0%25BA%25D0%25BE%25D0%25B3%25D0%25BE&amp;action=edit&amp;redlink=1" TargetMode="External"/><Relationship Id="rId19" Type="http://schemas.openxmlformats.org/officeDocument/2006/relationships/hyperlink" Target="file:///F:/w/index.php%3Ftitle=%25D0%259A%25D1%2580%25D0%25B0%25D1%2581%25D0%25BD%25D0%25B0%25D1%258F_%25D0%25BA%25D0%25BD%25D0%25B8%25D0%25B3%25D0%25B0_%25D0%259F%25D0%25B5%25D0%25BD%25D0%25B7%25D0%25B5%25D0%25BD%25D1%2581%25D0%25BA%25D0%25BE%25D0%25B9_%25D0%25BE%25D0%25B1%25D0%25BB%25D0%25B0%25D1%2581%25D1%2582%25D0%25B8&amp;action=edit&amp;redlink=1" TargetMode="External"/><Relationship Id="rId20" Type="http://schemas.openxmlformats.org/officeDocument/2006/relationships/image" Target="../media/image60.jpeg"/><Relationship Id="rId2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F:/wiki/%25D0%25A0%25D1%258B%25D0%25B1%25D1%258B" TargetMode="External"/><Relationship Id="rId2" Type="http://schemas.openxmlformats.org/officeDocument/2006/relationships/hyperlink" Target="file:///F:/wiki/%25D0%2593%25D0%25BE%25D0%25BB%25D1%258C%25D1%258F%25D0%25BD" TargetMode="External"/><Relationship Id="rId3" Type="http://schemas.openxmlformats.org/officeDocument/2006/relationships/hyperlink" Target="file:///F:/wiki/%25D0%2593%25D0%25BE%25D0%25BB%25D0%25B5%25D1%2586_(%25D1%2580%25D1%258B%25D0%25B1%25D0%25B0)" TargetMode="External"/><Relationship Id="rId4" Type="http://schemas.openxmlformats.org/officeDocument/2006/relationships/hyperlink" Target="file:///F:/wiki/%25D0%2593%25D0%25BE%25D0%25BB%25D0%25B0%25D0%25B2%25D0%25BB%25D1%258C" TargetMode="External"/><Relationship Id="rId5" Type="http://schemas.openxmlformats.org/officeDocument/2006/relationships/hyperlink" Target="file:///F:/wiki/%25D0%259E%25D0%25BA%25D1%2583%25D0%25BD%25D1%258C" TargetMode="External"/><Relationship Id="rId6" Type="http://schemas.openxmlformats.org/officeDocument/2006/relationships/hyperlink" Target="file:///F:/w/index.php%3Ftitle=%25D0%259A%25D0%25B0%25D1%2580%25D0%25B0%25D1%2581%25D1%258C_%25D0%25B7%25D0%25BE%25D0%25BB%25D0%25BE%25D1%2582%25D0%25BE%25D0%25B9&amp;action=edit&amp;redlink=1" TargetMode="External"/><Relationship Id="rId7" Type="http://schemas.openxmlformats.org/officeDocument/2006/relationships/hyperlink" Target="file:///F:/wiki/%25D0%259F%25D0%25BB%25D0%25BE%25D1%2582%25D0%25B2%25D0%25B0" TargetMode="External"/><Relationship Id="rId8" Type="http://schemas.openxmlformats.org/officeDocument/2006/relationships/hyperlink" Target="file:///F:/wiki/%25D0%2592%25D1%258C%25D1%258E%25D0%25BD" TargetMode="External"/><Relationship Id="rId9" Type="http://schemas.openxmlformats.org/officeDocument/2006/relationships/hyperlink" Target="file:///F:/wiki/%25D0%259D%25D0%25B0%25D0%25BB%25D0%25B8%25D0%25BC" TargetMode="External"/><Relationship Id="rId10" Type="http://schemas.openxmlformats.org/officeDocument/2006/relationships/hyperlink" Target="file:///F:/wiki/%25D0%25A9%25D1%2583%25D0%25BA%25D0%25B0" TargetMode="External"/><Relationship Id="rId11" Type="http://schemas.openxmlformats.org/officeDocument/2006/relationships/hyperlink" Target="file:///F:/wiki/%25D0%25AF%25D0%25B7%25D1%258C" TargetMode="External"/><Relationship Id="rId12" Type="http://schemas.openxmlformats.org/officeDocument/2006/relationships/hyperlink" Target="file:///F:/wiki/%25D0%259B%25D0%25B8%25D0%25BD%25D1%258C" TargetMode="External"/><Relationship Id="rId13" Type="http://schemas.openxmlformats.org/officeDocument/2006/relationships/hyperlink" Target="file:///F:/wiki/%25D0%259B%25D0%25B5%25D1%2589" TargetMode="External"/><Relationship Id="rId14" Type="http://schemas.openxmlformats.org/officeDocument/2006/relationships/hyperlink" Target="file:///F:/wiki/%25D0%2592%25D0%25B5%25D1%2580%25D1%2585%25D0%25BE%25D0%25B2%25D0%25BA%25D0%25B0" TargetMode="External"/><Relationship Id="rId15" Type="http://schemas.openxmlformats.org/officeDocument/2006/relationships/hyperlink" Target="file:///F:/wiki/%25D0%25A3%25D0%25BA%25D0%25BB%25D0%25B5%25D0%25B9%25D0%25BA%25D0%25B0" TargetMode="External"/><Relationship Id="rId16" Type="http://schemas.openxmlformats.org/officeDocument/2006/relationships/hyperlink" Target="file:///F:/wiki/%25D0%2595%25D0%25BB%25D0%25B5%25D1%2586" TargetMode="External"/><Relationship Id="rId17" Type="http://schemas.openxmlformats.org/officeDocument/2006/relationships/hyperlink" Target="file:///F:/wiki/%25D0%259F%25D0%25B5%25D1%2581%25D0%25BA%25D0%25B0%25D1%2580%25D1%258C" TargetMode="External"/><Relationship Id="rId18" Type="http://schemas.openxmlformats.org/officeDocument/2006/relationships/hyperlink" Target="file:///F:/wiki/%25D0%2595%25D1%2580%25D1%2588" TargetMode="External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F:/wiki/%25D0%259A%25D1%2580%25D0%25B0%25D1%2581%25D0%25BD%25D0%25B0%25D1%258F_%25D0%25BA%25D0%25BD%25D0%25B8%25D0%25B3%25D0%25B0_%25D0%25A0%25D0%25BE%25D1%2581%25D1%2581%25D0%25B8%25D0%25B8" TargetMode="External"/><Relationship Id="rId2" Type="http://schemas.openxmlformats.org/officeDocument/2006/relationships/hyperlink" Target="file:///F:/wiki/%25D0%259A%25D0%25BE%25D0%25B2%25D1%258B%25D0%25BB%25D1%258C" TargetMode="External"/><Relationship Id="rId3" Type="http://schemas.openxmlformats.org/officeDocument/2006/relationships/hyperlink" Target="file:///F:/w/index.php%3Ftitle=%25D0%259A%25D0%25BE%25D0%25B2%25D1%258B%25D0%25BB%25D1%258C_%25D0%25BE%25D0%25BF%25D1%2583%25D1%2588%25D0%25B5%25D0%25BD%25D0%25BD%25D0%25BE%25D0%25BB%25D0%25B8%25D1%2581%25D1%2582%25D0%25BD%25D1%258B%25D0%25B9&amp;action=edit&amp;redlink=1" TargetMode="External"/><Relationship Id="rId4" Type="http://schemas.openxmlformats.org/officeDocument/2006/relationships/hyperlink" Target="file:///F:/w/index.php%3Ftitle=%25D0%259A%25D0%25BE%25D0%25B2%25D1%258B%25D0%25BB%25D1%258C_%25D0%25BF%25D0%25B5%25D1%2580%25D0%25B8%25D1%2581%25D1%2582%25D1%258B%25D0%25B9&amp;action=edit&amp;redlink=1" TargetMode="External"/><Relationship Id="rId5" Type="http://schemas.openxmlformats.org/officeDocument/2006/relationships/hyperlink" Target="file:///F:/w/index.php%3Ftitle=%25D0%259A%25D0%25BE%25D0%25B2%25D1%258B%25D0%25BB%25D1%258C_%25D0%25BA%25D1%2580%25D0%25B0%25D1%2581%25D0%25B8%25D0%25B2%25D0%25B5%25D0%25B9%25D1%2588%25D0%25B8%25D0%25B9&amp;action=edit&amp;redlink=1" TargetMode="External"/><Relationship Id="rId6" Type="http://schemas.openxmlformats.org/officeDocument/2006/relationships/hyperlink" Target="file:///F:/w/index.php%3Ftitle=%25D0%259A%25D0%25BE%25D0%25B2%25D1%258B%25D0%25BB%25D1%258C_%25D0%2597%25D0%25B0%25D0%25BB%25D0%25B5%25D1%2581%25D1%2581%25D0%25BA%25D0%25BE%25D0%25B3%25D0%25BE&amp;action=edit&amp;redlink=1" TargetMode="External"/><Relationship Id="rId7" Type="http://schemas.openxmlformats.org/officeDocument/2006/relationships/image" Target="../media/image61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F%25D0%25BE%25D0%25BB%25D0%25B5%25D0%25B2%25D0%25BA%25D0%25B0_%25D0%25B5%25D0%25B2%25D1%2580%25D0%25BE%25D0%25BF%25D0%25B5%25D0%25B9%25D1%2581%25D0%25BA%25D0%25B0%25D1%258F_%25D1%2580%25D1%258B%25D0%25B6%25D0%25B0%25D1%258F&amp;action=edit&amp;redlink=1" TargetMode="External"/><Relationship Id="rId2" Type="http://schemas.openxmlformats.org/officeDocument/2006/relationships/hyperlink" Target="file:///F:/w/index.php%3Ftitle=%25D0%259C%25D1%258B%25D1%2588%25D1%258C_%25D0%25BB%25D0%25B5%25D1%2581%25D0%25BD%25D0%25B0%25D1%258F&amp;action=edit&amp;redlink=1" TargetMode="External"/><Relationship Id="rId3" Type="http://schemas.openxmlformats.org/officeDocument/2006/relationships/hyperlink" Target="file:///F:/w/index.php%3Ftitle=%25D0%2596%25D0%25B5%25D0%25BB%25D1%2582%25D0%25BE%25D0%25B3%25D0%25BE%25D1%2580%25D0%25BB%25D0%25B0%25D1%258F_%25D0%25BC%25D1%258B%25D1%2588%25D1%258C&amp;action=edit&amp;redlink=1" TargetMode="External"/><Relationship Id="rId4" Type="http://schemas.openxmlformats.org/officeDocument/2006/relationships/hyperlink" Target="file:///F:/w/index.php%3Ftitle=%25D0%2591%25D1%2583%25D1%2580%25D0%25BE%25D0%25B7%25D1%2583%25D0%25B1%25D0%25BA%25D0%25B0_%25D0%25BE%25D0%25B1%25D1%258B%25D0%25BA%25D0%25BD%25D0%25BE%25D0%25B2%25D0%25B5%25D0%25BD%25D0%25BD%25D0%25B0%25D1%258F&amp;action=edit&amp;redlink=1" TargetMode="External"/><Relationship Id="rId5" Type="http://schemas.openxmlformats.org/officeDocument/2006/relationships/hyperlink" Target="file:///F:/wiki/%25D0%259A%25D1%2583%25D0%25BD%25D0%25B8%25D1%2586%25D0%25B0_%25D0%25BB%25D0%25B5%25D1%2581%25D0%25BD%25D0%25B0%25D1%258F" TargetMode="External"/><Relationship Id="rId6" Type="http://schemas.openxmlformats.org/officeDocument/2006/relationships/hyperlink" Target="file:///F:/wiki/%25D0%2591%25D0%25B0%25D1%2580%25D1%2581%25D1%2583%25D0%25BA" TargetMode="External"/><Relationship Id="rId7" Type="http://schemas.openxmlformats.org/officeDocument/2006/relationships/hyperlink" Target="file:///F:/wiki/%25D0%2597%25D0%25B0%25D1%258F%25D1%2586" TargetMode="External"/><Relationship Id="rId8" Type="http://schemas.openxmlformats.org/officeDocument/2006/relationships/hyperlink" Target="file:///F:/wiki/%25D0%259B%25D0%25BE%25D1%2581%25D1%258C" TargetMode="External"/><Relationship Id="rId9" Type="http://schemas.openxmlformats.org/officeDocument/2006/relationships/hyperlink" Target="file:///F:/wiki/%25D0%259A%25D0%25B0%25D0%25B1%25D0%25B0%25D0%25BD" TargetMode="External"/><Relationship Id="rId10" Type="http://schemas.openxmlformats.org/officeDocument/2006/relationships/hyperlink" Target="file:///F:/wiki/%25D0%259F%25D0%25BE%25D0%25BB%25D1%2591%25D0%25B2%25D0%25BA%25D0%25B0_%25D0%25BE%25D0%25B1%25D1%258B%25D0%25BA%25D0%25BD%25D0%25BE%25D0%25B2%25D0%25B5%25D0%25BD%25D0%25BD%25D0%25B0%25D1%258F" TargetMode="External"/><Relationship Id="rId11" Type="http://schemas.openxmlformats.org/officeDocument/2006/relationships/hyperlink" Target="file:///F:/w/index.php%3Ftitle=%25D0%25A1%25D0%25BB%25D0%25B5%25D0%25BF%25D1%258B%25D1%2588&amp;action=edit&amp;redlink=1" TargetMode="External"/><Relationship Id="rId12" Type="http://schemas.openxmlformats.org/officeDocument/2006/relationships/hyperlink" Target="file:///F:/wiki/%25D0%259F%25D0%25B5%25D1%2581%25D1%2582%25D1%2580%25D1%2583%25D1%2588%25D0%25BA%25D0%25B0_%25D1%2581%25D1%2582%25D0%25B5%25D0%25BF%25D0%25BD%25D0%25B0%25D1%258F" TargetMode="External"/><Relationship Id="rId13" Type="http://schemas.openxmlformats.org/officeDocument/2006/relationships/hyperlink" Target="file:///F:/wiki/%25D0%25A2%25D1%2583%25D1%2588%25D0%25BA%25D0%25B0%25D0%25BD%25D1%2587%25D0%25B8%25D0%25BA_%25D0%25B1%25D0%25BE%25D0%25BB%25D1%258C%25D1%2588%25D0%25BE%25D0%25B9" TargetMode="External"/><Relationship Id="rId1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5%25D0%25BB%25D0%25BE%25D0%25B5_%25D0%25BC%25D0%25BE%25D1%2580%25D0%25B5" TargetMode="External"/><Relationship Id="rId2" Type="http://schemas.openxmlformats.org/officeDocument/2006/relationships/hyperlink" Target="file:///F:/wiki/%25D0%259E%25D0%25BD%25D0%25B5%25D0%25B6%25D1%2581%25D0%25BA%25D0%25B0%25D1%258F_%25D0%25B3%25D1%2583%25D0%25B1%25D0%25B0" TargetMode="External"/><Relationship Id="rId3" Type="http://schemas.openxmlformats.org/officeDocument/2006/relationships/slide" Target=""/><Relationship Id="rId4" Type="http://schemas.openxmlformats.org/officeDocument/2006/relationships/hyperlink" Target="file:///F:/w/index.php%3Ftitle=%25D0%2591%25D0%25BE%25D0%25BB%25D1%258C%25D1%2588%25D0%25BE%25D0%25B9_%25D0%25A1%25D0%25BE%25D0%25BB%25D0%25BE%25D0%25B2%25D0%25B5%25D1%2586%25D0%25BA%25D0%25B8%25D0%25B9_%25D0%25BE%25D1%2581%25D1%2582%25D1%2580%25D0%25BE%25D0%25B2&amp;action=edit&amp;redlink=1" TargetMode="External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1%2580%25D0%25B8%25D0%25BC%25D0%25BE%25D1%2580%25D1%2581%25D0%25BA%25D0%25B8%25D0%25B9_%25D0%25BA%25D1%2580%25D0%25B0%25D0%25B9" TargetMode="External"/><Relationship Id="rId2" Type="http://schemas.openxmlformats.org/officeDocument/2006/relationships/hyperlink" Target="file:///F:/wiki/%25D0%25A5%25D0%25B0%25D0%25BD%25D0%25BA%25D0%25B0" TargetMode="External"/><Relationship Id="rId3" Type="http://schemas.openxmlformats.org/officeDocument/2006/relationships/hyperlink" Target="file:///F:/wiki/%25D0%25AF%25D0%25BF%25D0%25BE%25D0%25BD%25D1%2581%25D0%25BA%25D0%25B8%25D0%25B9_%25D0%25B6%25D1%2583%25D1%2580%25D0%25B0%25D0%25B2%25D0%25BB%25D1%258C" TargetMode="External"/><Relationship Id="rId4" Type="http://schemas.openxmlformats.org/officeDocument/2006/relationships/hyperlink" Target="file:///F:/wiki/%25D0%2594%25D0%25B0%25D1%2583%25D1%2580%25D1%2581%25D0%25BA%25D0%25B8%25D0%25B9_%25D0%25B6%25D1%2583%25D1%2580%25D0%25B0%25D0%25B2%25D0%25BB%25D1%258C" TargetMode="External"/><Relationship Id="rId5" Type="http://schemas.openxmlformats.org/officeDocument/2006/relationships/hyperlink" Target="file:///F:/wiki/%25D0%259A%25D1%2580%25D0%25B0%25D1%2581%25D0%25BD%25D0%25BE%25D0%25BD%25D0%25BE%25D0%25B3%25D0%25B8%25D0%25B9_%25D0%25B8%25D0%25B1%25D0%25B8%25D1%2581" TargetMode="External"/><Relationship Id="rId6" Type="http://schemas.openxmlformats.org/officeDocument/2006/relationships/hyperlink" Target="file:///F:/wiki/%25D0%259A%25D0%25BE%25D0%25BB%25D0%25BF%25D0%25B8%25D1%2586%25D0%25B0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u.wikipedia.org/wiki/&#1060;&#1072;&#1081;&#1083;:Nipponia_nippon.png" TargetMode="External"/><Relationship Id="rId3" Type="http://schemas.openxmlformats.org/officeDocument/2006/relationships/image" Target="../media/image10.png"/><Relationship Id="rId4" Type="http://schemas.openxmlformats.org/officeDocument/2006/relationships/hyperlink" Target="http://ru.wikipedia.org/wiki/&#1060;&#1072;&#1081;&#1083;:Loeffler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AD%25D0%25B2%25D1%2580%25D0%25B8%25D0%25B0%25D0%25BB%25D0%25B0_%25D1%2583%25D1%2581%25D1%2582%25D1%2580%25D0%25B0%25D1%2588%25D0%25B0%25D1%258E%25D1%2589%25D0%25B0%25D1%258F&amp;action=edit&amp;redlink=1" TargetMode="External"/><Relationship Id="rId2" Type="http://schemas.openxmlformats.org/officeDocument/2006/relationships/hyperlink" Target="file:///F:/wiki/%25D0%259B%25D0%25BE%25D1%2582%25D0%25BE%25D1%2581_%25D0%259A%25D0%25BE%25D0%25BC%25D0%25B0%25D1%2580%25D0%25BE%25D0%25B2%25D0%25B0" TargetMode="External"/><Relationship Id="rId3" Type="http://schemas.openxmlformats.org/officeDocument/2006/relationships/hyperlink" Target="file:///F:/wiki/%25D0%2591%25D1%2580%25D0%25B0%25D0%25B7%25D0%25B5%25D0%25BD%25D0%25B8%25D1%258F_%25D0%25A8%25D1%2580%25D0%25B5%25D0%25B1%25D0%25B5%25D1%2580%25D0%25B0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ru.wikipedia.org/wiki/&#1060;&#1072;&#1081;&#1083;:BraseniaAlt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Заповедники Росси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хотэ-Алинский заповедн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Сихотэ́-Али́нский государственный биосферный природный заповедни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был организован 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35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года и является уникальной природной сокровищницей России. Первоначальная цель его создания - сохранение и восстановление почти истреблённого в то врем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собол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В настоящее время заповедник представляет собой наиболее удобное место для проведения наблюдений з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амурским тигром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Сихотэ-Алинский заповедник был также первым природным парком н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льнем Востоке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включённым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ЮНЕСКО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во всемирную систему биосферных заповеднико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Picture 10" descr="Zap emblem.jpg"/>
          <p:cNvPicPr/>
          <p:nvPr/>
        </p:nvPicPr>
        <p:blipFill>
          <a:blip r:embed="rId6"/>
          <a:stretch/>
        </p:blipFill>
        <p:spPr>
          <a:xfrm>
            <a:off x="4932360" y="2119320"/>
            <a:ext cx="36003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храняемые виды растений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ашмачок крупноцветковы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Башмачок настоящ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Бородатка япо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орец сихотин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Груша уссурий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Диоскорея япо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Заманиха высо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асатик мечевидны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отовник манчьжур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Кубышка мал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Курильский чай маньчжур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Лилия даур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илия двурядн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Лимонник китай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Лиственница ольги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женьшень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монник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енерин башмачок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Женьшень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8" descr="180px-Schisandra_sinensis_flower"/>
          <p:cNvPicPr/>
          <p:nvPr/>
        </p:nvPicPr>
        <p:blipFill>
          <a:blip r:embed="rId16"/>
          <a:stretch/>
        </p:blipFill>
        <p:spPr>
          <a:xfrm>
            <a:off x="5651640" y="2492280"/>
            <a:ext cx="2305080" cy="177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Венерин башмачок настоящий и другие орхидеи средней Карелии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851280" y="393372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ginseng"/>
          <p:cNvPicPr/>
          <p:nvPr/>
        </p:nvPicPr>
        <p:blipFill>
          <a:blip r:embed="rId19"/>
          <a:stretch/>
        </p:blipFill>
        <p:spPr>
          <a:xfrm>
            <a:off x="6012000" y="4653000"/>
            <a:ext cx="23032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храняемые виды животных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180px-Siberian-Tiger"/>
          <p:cNvPicPr/>
          <p:nvPr/>
        </p:nvPicPr>
        <p:blipFill>
          <a:blip r:embed="rId1"/>
          <a:stretch/>
        </p:blipFill>
        <p:spPr>
          <a:xfrm>
            <a:off x="395280" y="3573360"/>
            <a:ext cx="3487680" cy="18525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Млекопитающ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Тигр амур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ора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Лос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ятнистый олен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ималайский медвед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Птиц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Аист чёрн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Бека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8" descr="Горалы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105264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Гималайский медведь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40000" y="2185920"/>
            <a:ext cx="2259000" cy="16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Обыкновенный бекас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5106960"/>
            <a:ext cx="2016000" cy="1517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АИСТ ЧЁРНЫЙ"/>
          <p:cNvPicPr/>
          <p:nvPr/>
        </p:nvPicPr>
        <p:blipFill>
          <a:blip r:embed="rId15"/>
          <a:stretch/>
        </p:blipFill>
        <p:spPr>
          <a:xfrm>
            <a:off x="2411280" y="4941720"/>
            <a:ext cx="237672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Лазовский заповедни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асположен в Южном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риморь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к востоку от долины рек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иев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на территори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Лазовского район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риморского кра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1928 году сформирован как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заказник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а в 1957 году преобразован в самостоятельный заповедни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нимает площадь в 120 989 га. Климат на его территории носи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муссонны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характер. Лесами занято 96% территории заповедника. Крупнейшая роща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тис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Дальнем Восток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Лазовский заповедник (Россия)"/>
          <p:cNvPicPr/>
          <p:nvPr/>
        </p:nvPicPr>
        <p:blipFill>
          <a:blip r:embed="rId8"/>
          <a:stretch/>
        </p:blipFill>
        <p:spPr>
          <a:xfrm>
            <a:off x="539640" y="3457440"/>
            <a:ext cx="40323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храняемые виды млекопитающих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Амурский гора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Амурский тигр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игантская бурозуб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льневосточный леопар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в настоящий момент не встречаетс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быкновенный длиннокры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Уссурийский пятнистый олен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1600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ималайский медвед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8" descr="180px-Ursus_thibetanus_Phila"/>
          <p:cNvPicPr/>
          <p:nvPr/>
        </p:nvPicPr>
        <p:blipFill>
          <a:blip r:embed="rId7"/>
          <a:stretch/>
        </p:blipFill>
        <p:spPr>
          <a:xfrm>
            <a:off x="4859280" y="22478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храняемые виды птиц 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Дальневосточный кроншнеп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Даурский журавл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Дроф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Египетская цапл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Желтоклювая цапл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локту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олпиц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расноногий ибис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рече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мандари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роншнеп ,колпиц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ндари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8" descr="180px-Mandarin"/>
          <p:cNvPicPr/>
          <p:nvPr/>
        </p:nvPicPr>
        <p:blipFill>
          <a:blip r:embed="rId10"/>
          <a:stretch/>
        </p:blipFill>
        <p:spPr>
          <a:xfrm>
            <a:off x="5580000" y="4430880"/>
            <a:ext cx="3386160" cy="2427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Кроншнепы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780000" y="2708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Колпица обыкновенная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516720" y="2421000"/>
            <a:ext cx="23302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Малая крач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л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лебед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Нырок Бэ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быкновенный фламинго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Орлан-белохвос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Охотский ули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Пискуль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Рогатая камышниц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ыбный фили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апса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искуль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мышн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апс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8" descr="180px-PeregrineFalcon"/>
          <p:cNvPicPr/>
          <p:nvPr/>
        </p:nvPicPr>
        <p:blipFill>
          <a:blip r:embed="rId12"/>
          <a:stretch/>
        </p:blipFill>
        <p:spPr>
          <a:xfrm>
            <a:off x="6656400" y="4076640"/>
            <a:ext cx="2214720" cy="2781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КРАЧКА МАЛАЯ"/>
          <p:cNvPicPr/>
          <p:nvPr/>
        </p:nvPicPr>
        <p:blipFill>
          <a:blip r:embed="rId13"/>
          <a:stretch/>
        </p:blipFill>
        <p:spPr>
          <a:xfrm>
            <a:off x="179280" y="9360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ЛЕБЕДЬ МАЛЫЙ"/>
          <p:cNvPicPr/>
          <p:nvPr/>
        </p:nvPicPr>
        <p:blipFill>
          <a:blip r:embed="rId14"/>
          <a:stretch/>
        </p:blipFill>
        <p:spPr>
          <a:xfrm>
            <a:off x="2556000" y="189000"/>
            <a:ext cx="2663640" cy="1739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Qtqy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500720" y="765000"/>
            <a:ext cx="2619360" cy="180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Орлан-белохвост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027920" y="1125360"/>
            <a:ext cx="2116080" cy="1586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Рогатая камышница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987640" y="5114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2" descr="Ente unbekannt 1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262320" y="3046320"/>
            <a:ext cx="174132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Курильский  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урильские остр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— цепь вулканических островов между полуостровом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амчатк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островом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Хоккайд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отделяют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Охотское мор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от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Тихого океан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ротяжённость — 1175 км. Площадь — 15,6 тыс. км². Имеют важное военно-стратегическое и большое экономическое значение. Включают 20 крупных и более 30 мелких островов. В настоящий момент все Курильские острова контролирую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Росси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входят в её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Сахалинскую область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4427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урильские острова — это типичная энсиматическ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островная дуг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на краю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Охотской плит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Она находится над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зоной субдукци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 которой поглощаетс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тихоокеанская плит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Бо́льшая часть островов гориста. Наибольшая высота 2339 м 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стров Атласов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улкан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Алаи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Около 40 действующи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вулкан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; горячи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минеральные источник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Высок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сейсмичност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Тихоокеанское вулканическое огненное кольцо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. Нередки крупны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цунам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стров Атласо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8" descr="180px-Atlasovisland"/>
          <p:cNvPicPr/>
          <p:nvPr/>
        </p:nvPicPr>
        <p:blipFill>
          <a:blip r:embed="rId12"/>
          <a:stretch/>
        </p:blipFill>
        <p:spPr>
          <a:xfrm>
            <a:off x="4284720" y="2287440"/>
            <a:ext cx="46083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акланы на острове Шумш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924360" y="1197000"/>
            <a:ext cx="496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 островах обитаю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лис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мелкие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рызу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Большое количество птиц: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ржан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чай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ути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акла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буревестни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альбатрос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воробьи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сов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околообраз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другие. Много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тичьих колон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ибрежный подводный мир, в отличие от островов, не только многочисленен, но и весьма разнообразен. В прибрежных водах обитаю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нерп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ала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косат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сивуч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Большое промысловое значение имеют: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рыб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краб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моллюс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кальмар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1"/>
              </a:rPr>
              <a:t>ракообраз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2"/>
              </a:rPr>
              <a:t>трепанг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3"/>
              </a:rPr>
              <a:t>морские огурц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4"/>
              </a:rPr>
              <a:t>морские еж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5"/>
              </a:rPr>
              <a:t>морская капуст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6"/>
              </a:rPr>
              <a:t>кит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Моря, омывающие берега Сахалина и Курилов, являются одним из наиболе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5" descr="180px-212_1264_Baklany_Shumshu"/>
          <p:cNvPicPr/>
          <p:nvPr/>
        </p:nvPicPr>
        <p:blipFill>
          <a:blip r:embed="rId27"/>
          <a:stretch/>
        </p:blipFill>
        <p:spPr>
          <a:xfrm>
            <a:off x="755640" y="2421000"/>
            <a:ext cx="26398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АЛЬНЕВОСТОЧНЫЙ МОРСКО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иосферны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заповедни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альневосточный государственный морской заповедник был создан в соответсвии  24 марта 1978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поведник занимает часть акватории залива Петра Великого Японского моря, 12 небольших островов, а также участок материкового побережья и расположен на территории Приморского кра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7" descr="увеличить карту ООП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405160"/>
            <a:ext cx="367344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сатк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вуч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л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8" descr="СИВУЧ"/>
          <p:cNvPicPr/>
          <p:nvPr/>
        </p:nvPicPr>
        <p:blipFill>
          <a:blip r:embed="rId1"/>
          <a:stretch/>
        </p:blipFill>
        <p:spPr>
          <a:xfrm>
            <a:off x="611280" y="270828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526"/>
          <p:cNvPicPr/>
          <p:nvPr/>
        </p:nvPicPr>
        <p:blipFill>
          <a:blip r:embed="rId2"/>
          <a:stretch/>
        </p:blipFill>
        <p:spPr>
          <a:xfrm>
            <a:off x="4799160" y="2492280"/>
            <a:ext cx="3367080" cy="3821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КОСАТКА"/>
          <p:cNvPicPr/>
          <p:nvPr/>
        </p:nvPicPr>
        <p:blipFill>
          <a:blip r:embed="rId3"/>
          <a:stretch/>
        </p:blipFill>
        <p:spPr>
          <a:xfrm>
            <a:off x="324000" y="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6880" y="369360"/>
            <a:ext cx="7961400" cy="978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чатский 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амча́т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—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олуостров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в северо-восточной част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тери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Евраз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на территори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России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 Омывается с запада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хотским море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с востока —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еринговым море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Тихим океан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луостров вытянут с северо-востока на юго-запад на 1200 км. Соединяется с материком узким (до 93 км)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перешейк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— Парапольским долом. Наибольшая ширина (до 440 км) — на широте мыса Кроноцки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бщая площадь полуострова — 472,3 тыс. км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65160" y="1268280"/>
            <a:ext cx="40388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опограф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мчатк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4" name="Picture 17" descr="Топография Камчатки"/>
          <p:cNvPicPr/>
          <p:nvPr/>
        </p:nvPicPr>
        <p:blipFill>
          <a:blip r:embed="rId9"/>
          <a:stretch/>
        </p:blipFill>
        <p:spPr>
          <a:xfrm>
            <a:off x="5219640" y="1773360"/>
            <a:ext cx="285768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42483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Вулкан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являются главными достопримечательностями полуострова Камчатка. Изображения вулканов фигурируют на флаге и герб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амчатского кр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ранее 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Камчатской област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 и город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етропавловск-Камчат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а также на большинстве сувениров, производящихся на Камчатк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0552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улканы Шивелуч, Вилючинский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14" descr="180px-Shiveluch"/>
          <p:cNvPicPr/>
          <p:nvPr/>
        </p:nvPicPr>
        <p:blipFill>
          <a:blip r:embed="rId5"/>
          <a:stretch/>
        </p:blipFill>
        <p:spPr>
          <a:xfrm>
            <a:off x="5686560" y="2367000"/>
            <a:ext cx="3206520" cy="2066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Вид на вулкан Вилючинская Сопка с северо-востока"/>
          <p:cNvPicPr/>
          <p:nvPr/>
        </p:nvPicPr>
        <p:blipFill>
          <a:blip r:embed="rId6"/>
          <a:stretch/>
        </p:blipFill>
        <p:spPr>
          <a:xfrm>
            <a:off x="4211640" y="4221000"/>
            <a:ext cx="345600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18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Фауну сухопутных млекопитающих составляют: камчат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собол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орноста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выд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заяц-беля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ндат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лисиц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лос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северный олен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снежный баран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ыс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полярный вол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росомах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ас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и др. Фауне присущи некоторые черты островного характера: на Камчатке нет многих типичных для Восточной Сибири и Дальнего Востока таёжных животных, например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абарг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дикуш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только на самом севере края (в Пенжинском районе) встречаетс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белка-летяг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сравнительно недавно через Парапольский дол и далее к югу проник якут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бурунду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также, как и рысь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30-е годы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XX ве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Из крупных хищных зверей лесной зоны самым заметным и самым известным видом был и остаётс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камчатский бурый медвед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урый камчатский медведь весно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7" descr="250px-Brown-bear-in-spring"/>
          <p:cNvPicPr/>
          <p:nvPr/>
        </p:nvPicPr>
        <p:blipFill>
          <a:blip r:embed="rId21"/>
          <a:stretch/>
        </p:blipFill>
        <p:spPr>
          <a:xfrm>
            <a:off x="4500720" y="2133720"/>
            <a:ext cx="3743280" cy="2516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БАРАН СНЕЖНЫЙ"/>
          <p:cNvPicPr/>
          <p:nvPr/>
        </p:nvPicPr>
        <p:blipFill>
          <a:blip r:embed="rId22"/>
          <a:stretch/>
        </p:blipFill>
        <p:spPr>
          <a:xfrm>
            <a:off x="4211640" y="4734000"/>
            <a:ext cx="2381400" cy="212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180px-Wolverine_on_rock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732720" y="4941720"/>
            <a:ext cx="2160360" cy="142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Martes zibellina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79280" y="189000"/>
            <a:ext cx="2619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аститель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тительный мир Камчатки насчитывает около 1200 видов сосудистых (высших) растений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з деревьев самая распространённая порода 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ереза Эрмана, или каменн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бразующая редкостойные леса по всему краю и доходящая на север до юга Корякского нагорь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риллиум камчатск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9" name="Picture 7" descr="250px-Tril2"/>
          <p:cNvPicPr/>
          <p:nvPr/>
        </p:nvPicPr>
        <p:blipFill>
          <a:blip r:embed="rId2"/>
          <a:stretch/>
        </p:blipFill>
        <p:spPr>
          <a:xfrm>
            <a:off x="5148360" y="1844640"/>
            <a:ext cx="2757240" cy="3673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Берёза Эрман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4581360"/>
            <a:ext cx="26193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чат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Доли́на ге́йзер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— это одно из наиболее крупных гейзерных полей мира, и единственное в Евразии. Долина Гейзеров расположена н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амчатк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роноцком государственном биосферном заповедник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3" name="Picture 11" descr="гейзеры"/>
          <p:cNvPicPr/>
          <p:nvPr/>
        </p:nvPicPr>
        <p:blipFill>
          <a:blip r:embed="rId3"/>
          <a:stretch/>
        </p:blipFill>
        <p:spPr>
          <a:xfrm>
            <a:off x="4211640" y="3573360"/>
            <a:ext cx="4680000" cy="3137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Камчатский край на карте Росси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197000"/>
            <a:ext cx="33339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еографическое положени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 слияния рек Гейзерная 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Шумная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территории около 2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м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ходится около 20 крупных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ейзер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множество источников, периодически выбрасывающих фонтаны почти кипящей воды (более 95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°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или горячего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ар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лина гейзеров —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вулканичес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аньон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шириной всего около двух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илометр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длиной чуть более четырё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настоящее время часть долины засыпана крупным оползне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8" name="Picture 7" descr="100px-Soviet_Union_stamp_1966_CPA_3449"/>
          <p:cNvPicPr/>
          <p:nvPr/>
        </p:nvPicPr>
        <p:blipFill>
          <a:blip r:embed="rId9"/>
          <a:stretch/>
        </p:blipFill>
        <p:spPr>
          <a:xfrm>
            <a:off x="6545160" y="1700280"/>
            <a:ext cx="186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быт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айфун Эльза 1981 год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81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. тайфун Эльза вызвал дожди, по причине которых уровень воды в рек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ейзерно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поднялся на несколько метров. Грязевые потоки увлекали за собой по руслу трёхметровые валуны, разрушая всё на своём пути. Пострадали многие источники, включая знаменитый Малахитовый грот. Гейзер Большая Печка исчез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Сель 2007 год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3 июн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2007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ода несколько мощ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селев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потоков обрушились на долину, накрыв большую её часть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рязью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амням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перекрыв многие источники. Также образовалась естественн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дамб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 случае прорыва которой возможно образовани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озе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которое покроет практически все источники слоем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воды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 action="ppaction://hlinksldjump"/>
              </a:rPr>
              <a:t>[3]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Находившиеся в долине туристы и персонал были срочно эвакуированы, поэтому жертв удалось избежа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Государственный природный заповедник «Столбы»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— расположен на северо-западных отрогах Восточного Саяна, граничащих со Средне-Сибирским плоскогорьем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Естественными рубежами охраняемой территории являются правые притоки р. Енисей: на северо-востоке — рек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азаих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на юге и юго-западе — рек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н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Большая Слизневка. С северо-востока территория граничит с г. Красноярском. Основан заповедник в 1925 году по инициативе жителей города для сохранения природных комплексов вокруг живопис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сиенитов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станцев — «столбов». В настоящее время его площадь - 47 154 га. Представлен к Списку World Heritage Фонда всемирного наследия ЮНЕСКО; дожидается своей очеред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Расположение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Arial"/>
                <a:hlinkClick r:id="rId2"/>
              </a:rPr>
              <a:t>Россия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лижайший город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3"/>
              </a:rPr>
              <a:t>Красноярск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лощадь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47154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Arial"/>
                <a:hlinkClick r:id="rId4"/>
              </a:rPr>
              <a:t>га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снован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5"/>
              </a:rPr>
              <a:t>1925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год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4" name="Picture 5" descr="Zapovednik Stolby Krasnojarskij Kraj 03.jpg"/>
          <p:cNvPicPr/>
          <p:nvPr/>
        </p:nvPicPr>
        <p:blipFill>
          <a:blip r:embed="rId6"/>
          <a:stretch/>
        </p:blipFill>
        <p:spPr>
          <a:xfrm>
            <a:off x="826920" y="1916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180px-Rock_in_Nature_Reserve_Stolby"/>
          <p:cNvPicPr/>
          <p:nvPr/>
        </p:nvPicPr>
        <p:blipFill>
          <a:blip r:embed="rId7"/>
          <a:stretch/>
        </p:blipFill>
        <p:spPr>
          <a:xfrm>
            <a:off x="6516720" y="18446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Clipboard02.jpg"/>
          <p:cNvPicPr/>
          <p:nvPr/>
        </p:nvPicPr>
        <p:blipFill>
          <a:blip r:embed="rId8"/>
          <a:stretch/>
        </p:blipFill>
        <p:spPr>
          <a:xfrm>
            <a:off x="3708360" y="4076640"/>
            <a:ext cx="2290680" cy="171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Zapovednik Stolby Krasnojarskij Kraj 05.jpg"/>
          <p:cNvPicPr/>
          <p:nvPr/>
        </p:nvPicPr>
        <p:blipFill>
          <a:blip r:embed="rId9"/>
          <a:stretch/>
        </p:blipFill>
        <p:spPr>
          <a:xfrm>
            <a:off x="4595760" y="1989000"/>
            <a:ext cx="1354320" cy="180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Zapovednik Stolby Krasnojarskij Kraj 15.jpg"/>
          <p:cNvPicPr/>
          <p:nvPr/>
        </p:nvPicPr>
        <p:blipFill>
          <a:blip r:embed="rId10"/>
          <a:stretch/>
        </p:blipFill>
        <p:spPr>
          <a:xfrm>
            <a:off x="1332000" y="4292640"/>
            <a:ext cx="1191960" cy="1584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Zapovednik Stolby Krasnojarskij Kraj 01.jpg"/>
          <p:cNvPicPr/>
          <p:nvPr/>
        </p:nvPicPr>
        <p:blipFill>
          <a:blip r:embed="rId11"/>
          <a:stretch/>
        </p:blipFill>
        <p:spPr>
          <a:xfrm>
            <a:off x="6684840" y="4005360"/>
            <a:ext cx="1365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морском заповеднике 11 больших и малых остров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 островах есть скалы, песчаные пляжи, лес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5" descr="m2"/>
          <p:cNvPicPr/>
          <p:nvPr/>
        </p:nvPicPr>
        <p:blipFill>
          <a:blip r:embed="rId1"/>
          <a:stretch/>
        </p:blipFill>
        <p:spPr>
          <a:xfrm>
            <a:off x="1258920" y="3141720"/>
            <a:ext cx="2800440" cy="3056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3"/>
          <p:cNvPicPr/>
          <p:nvPr/>
        </p:nvPicPr>
        <p:blipFill>
          <a:blip r:embed="rId2"/>
          <a:stretch/>
        </p:blipFill>
        <p:spPr>
          <a:xfrm>
            <a:off x="6443640" y="907920"/>
            <a:ext cx="2305080" cy="2951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B3"/>
          <p:cNvPicPr/>
          <p:nvPr/>
        </p:nvPicPr>
        <p:blipFill>
          <a:blip r:embed="rId3"/>
          <a:stretch/>
        </p:blipFill>
        <p:spPr>
          <a:xfrm>
            <a:off x="4859280" y="4292640"/>
            <a:ext cx="307836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Кузнецкий Алатау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осударственный природный заповедник Кузнецкий Алатау создан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27 декабр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989 год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Его общая площадь 412 900 га. Вокруг заповедника установлена охранная зона общей площадью 245 931 г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6" descr="250px-Kem-004"/>
          <p:cNvPicPr/>
          <p:nvPr/>
        </p:nvPicPr>
        <p:blipFill>
          <a:blip r:embed="rId3"/>
          <a:stretch/>
        </p:blipFill>
        <p:spPr>
          <a:xfrm>
            <a:off x="4716360" y="2406600"/>
            <a:ext cx="395928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Приволжская лесостепь (заповедник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Приволжская лесостеп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 — государственный природны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заповедни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расположен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Пензенской обла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в лесостепной зоне Среднего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Поволжь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Росси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Заповедник создан в 1989 году для сохранения уникальны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степе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северного типа. Заповедник состоит из 5 участков, разбросанных по всей Пензенской и частично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Ульяновской обла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на западных склона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Приволжской возвышенно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общая площадь 8326 га.. Заповедник «Приволжская лесостепь» является природоохранным, научно-исследовательским и эколого-просветительским учреждением федерального значения, имеющим целью сохранение и изучение естественного хода природных процессов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6" descr="300px-Poperechenskaya_step"/>
          <p:cNvPicPr/>
          <p:nvPr/>
        </p:nvPicPr>
        <p:blipFill>
          <a:blip r:embed="rId8"/>
          <a:stretch/>
        </p:blipFill>
        <p:spPr>
          <a:xfrm>
            <a:off x="4643280" y="2349360"/>
            <a:ext cx="4032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астительность</a:t>
            </a:r>
            <a:br>
              <a:rPr sz="4000"/>
            </a:br>
            <a:r>
              <a:rPr b="1" lang="ru-RU" sz="40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Флор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заповедника чрезвычайно разнообразна. В настоящее время на его территории выявлено 825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сосудистых растен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108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лишайников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72 вид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мохообразных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119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рибов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 Все вместе они составляют более 60 % флоры Пензенской области и около 40 % видового состава флоры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Среднего Поволжья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расную книгу России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включены встречающиеся в заповеднике: 1 вид грибов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мухомор шишковид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и 8 видов сосудистых растений. Это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ябчик русск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неоттианта клобучковая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ыльцеголовник крас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надбородник безлист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4 вид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овыле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опушеннолист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перист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красивейш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ковыль Залесского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 Ещё 53 вида сосудистых растений входит 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Красную книгу Пензенской области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2002 г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8" name="Picture 5" descr="Privolzhskaya lesostep 87.jpg"/>
          <p:cNvPicPr/>
          <p:nvPr/>
        </p:nvPicPr>
        <p:blipFill>
          <a:blip r:embed="rId20"/>
          <a:stretch/>
        </p:blipFill>
        <p:spPr>
          <a:xfrm>
            <a:off x="4762440" y="2374920"/>
            <a:ext cx="41306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доём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водоемах заповедника и его охранной зоны пока обнаружено 17 видов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рыб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олья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олец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голавл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кун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арась золотой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плотв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вью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налим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щу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яз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лин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ещ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верхов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уклей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елец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пескар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ерш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выл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расную книгу Росси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включены встречающиеся в заповедник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4 вида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овыл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опушеннолистны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еристы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расивейши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овыль Залесског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3" name="Picture 7" descr="Privolzhskaya lesostep 51.jpg"/>
          <p:cNvPicPr/>
          <p:nvPr/>
        </p:nvPicPr>
        <p:blipFill>
          <a:blip r:embed="rId7"/>
          <a:stretch/>
        </p:blipFill>
        <p:spPr>
          <a:xfrm>
            <a:off x="4356000" y="2327400"/>
            <a:ext cx="4608720" cy="30416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4"/>
          <p:cNvSpPr/>
          <p:nvPr/>
        </p:nvSpPr>
        <p:spPr>
          <a:xfrm>
            <a:off x="539640" y="32464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положение заповедника в лесостепной зоне определяет состав фауны, которая включает виды, типичные как для лесного зонального комплекса, так и для степного. К первым относя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олевка европейская рыж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лес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желтогорлая мыш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урозубка обыкновен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уница лес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арсук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заяц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лось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абан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остоянными компонентами степей являю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полёвка обыкновен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лепыш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еструшка степ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тушканчик большо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други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ловк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лове́цкие острова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ловки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 — архипелаг в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елом мор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входе в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Онежскую губу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Площадь — 347 км². Это крупнейший архипелаг беломорского бассейна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[1]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Соловецкие острова состоят из шести крупных островов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ловецкий (ил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ольшой Соловец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остров — 246 км²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архипелаг входит также более 100 малых островк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9" name="Picture 7" descr="645px-White Sea map ru.png"/>
          <p:cNvPicPr/>
          <p:nvPr/>
        </p:nvPicPr>
        <p:blipFill>
          <a:blip r:embed="rId5"/>
          <a:stretch/>
        </p:blipFill>
        <p:spPr>
          <a:xfrm>
            <a:off x="4356000" y="1947960"/>
            <a:ext cx="431964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оловецкий государственный историко-архитектурный и природный музей-заповедник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1" name="Picture 4" descr="Вид на Большой Соловецкий остров"/>
          <p:cNvPicPr/>
          <p:nvPr/>
        </p:nvPicPr>
        <p:blipFill>
          <a:blip r:embed="rId1"/>
          <a:stretch/>
        </p:blipFill>
        <p:spPr>
          <a:xfrm>
            <a:off x="571680" y="2436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ловецкий архипелаг, а также пятикилометровая акватория Белого моря включены в состав особо охраняемой территории — Федерального государственного учреждения «Соловецкий государственный историко-архитектурный и природный музей-заповедник». На Большом Соловецком острове находится зона строгой заповедности. Посещение этой зоны запрещен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о́льшая часть островов покрыта сосново-еловыми лесами, частично заболоченными. В прибрежной полосе наблюдаются богатые плантации водорослей, среди них ламинария, фукус, анфельция, которые имеют промышленное знач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ртина М.В.Нестеров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Соловки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5" name="Picture 7" descr="180px-NesterovMV_Solovki1917LUG"/>
          <p:cNvPicPr/>
          <p:nvPr/>
        </p:nvPicPr>
        <p:blipFill>
          <a:blip r:embed="rId1"/>
          <a:stretch/>
        </p:blipFill>
        <p:spPr>
          <a:xfrm>
            <a:off x="4788000" y="2852640"/>
            <a:ext cx="3744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87280" y="404640"/>
            <a:ext cx="70423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есурсы Интернет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ttp://wikipedia.or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ww.erudition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ww.altshuller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www.timeout.u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www.apspb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www.friends.nnov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travel.rin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elementy.ru/emai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gazeta.aif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заповедник вернулся тюлень ларга, ранее совсем ушедший из Южного Приморья.В летнее время в заливе Петра Великого насчитывается до 80% всей популяци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t4"/>
          <p:cNvPicPr/>
          <p:nvPr/>
        </p:nvPicPr>
        <p:blipFill>
          <a:blip r:embed="rId1"/>
          <a:stretch/>
        </p:blipFill>
        <p:spPr>
          <a:xfrm>
            <a:off x="4572000" y="220500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 более 350 вид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ссурийский бакл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тенец серой цапл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4" descr="m1"/>
          <p:cNvPicPr/>
          <p:nvPr/>
        </p:nvPicPr>
        <p:blipFill>
          <a:blip r:embed="rId1"/>
          <a:stretch/>
        </p:blipFill>
        <p:spPr>
          <a:xfrm>
            <a:off x="971640" y="2205000"/>
            <a:ext cx="1912680" cy="283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8"/>
          <p:cNvPicPr/>
          <p:nvPr/>
        </p:nvPicPr>
        <p:blipFill>
          <a:blip r:embed="rId2"/>
          <a:stretch/>
        </p:blipFill>
        <p:spPr>
          <a:xfrm>
            <a:off x="3780000" y="2133720"/>
            <a:ext cx="2862000" cy="1895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4"/>
          <p:cNvPicPr/>
          <p:nvPr/>
        </p:nvPicPr>
        <p:blipFill>
          <a:blip r:embed="rId3"/>
          <a:stretch/>
        </p:blipFill>
        <p:spPr>
          <a:xfrm>
            <a:off x="5796000" y="4149720"/>
            <a:ext cx="25747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Ханкайский заповедни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положен в юго-западной част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риморского кр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занимает площадь 39 289 га, включает акваторию озер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Хан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его побережье. Заповедник учрежден 28 декабря 1990 год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 территории заповедника обитают 334 вида птиц, из них 140 видов гнездится в настоящее время, 44 вида занесены в Красную книгу России и 12 видов — в Международную Красную книгу, наиболее редкие виды 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япон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урский журавл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расноногий ибис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олпиц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 др. Численность птиц в пиковые сезоны миграции (апрель, октябрь) достигает 2 миллионов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аурский журавл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олп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расноногий ибис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ли японский ибис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ЖУРАВЛЬ ДАУРСКИЙ"/>
          <p:cNvPicPr/>
          <p:nvPr/>
        </p:nvPicPr>
        <p:blipFill>
          <a:blip r:embed="rId1"/>
          <a:stretch/>
        </p:blipFill>
        <p:spPr>
          <a:xfrm>
            <a:off x="1042920" y="2708280"/>
            <a:ext cx="2857680" cy="1866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Красноногий ибис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3429000"/>
            <a:ext cx="2619360" cy="2390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Колпица обыкновенна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4653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 территории произрастает 49 редких и исчезающих видов растений (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эвриала устрашающ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лотос Комар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бразения Шребер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 др.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12" descr="180px-Nelumbo_nucifera3"/>
          <p:cNvPicPr/>
          <p:nvPr/>
        </p:nvPicPr>
        <p:blipFill>
          <a:blip r:embed="rId4"/>
          <a:stretch/>
        </p:blipFill>
        <p:spPr>
          <a:xfrm>
            <a:off x="324000" y="260280"/>
            <a:ext cx="3527280" cy="3724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Бразения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2997360"/>
            <a:ext cx="26193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Эвриала устрашающая приморск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ем. Кувшинковые -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ходится под угрозой исчезновения, включена в список видов, требующих охраны (Редкие и исчезающие виды .... 1981)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081"/>
          <p:cNvPicPr/>
          <p:nvPr/>
        </p:nvPicPr>
        <p:blipFill>
          <a:blip r:embed="rId1"/>
          <a:stretch/>
        </p:blipFill>
        <p:spPr>
          <a:xfrm>
            <a:off x="5292720" y="1341360"/>
            <a:ext cx="33336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1:00:21Z</dcterms:created>
  <dc:creator>Света</dc:creator>
  <dc:description/>
  <dc:language>en-US</dc:language>
  <cp:lastModifiedBy>Учитель</cp:lastModifiedBy>
  <dcterms:modified xsi:type="dcterms:W3CDTF">2013-05-06T16:54:14Z</dcterms:modified>
  <cp:revision>11</cp:revision>
  <dc:subject/>
  <dc:title>Заповедники России</dc:title>
</cp:coreProperties>
</file>